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320" y="1066680"/>
            <a:ext cx="8026200" cy="0"/>
          </a:xfrm>
          <a:prstGeom prst="line">
            <a:avLst/>
          </a:prstGeom>
          <a:ln w="38160">
            <a:solidFill>
              <a:srgbClr val="063de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 txBox="1"/>
          <p:nvPr/>
        </p:nvSpPr>
        <p:spPr>
          <a:xfrm>
            <a:off x="53352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/Tk Tutorial Part I: Overview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 txBox="1"/>
          <p:nvPr/>
        </p:nvSpPr>
        <p:spPr>
          <a:xfrm>
            <a:off x="3886200" y="6019920"/>
            <a:ext cx="43434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ecember 12, 1995, slide </a:t>
            </a:r>
            <a:fld id="{3AB6E1A5-B192-4B8E-994C-3E64517FE2E1}" type="slidenum">
              <a:rPr b="0" i="1" lang="en-US" sz="14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1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685800" y="152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An Overview of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914400" y="3048120"/>
            <a:ext cx="7391520" cy="25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John Ousterh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un Microsystems Labora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ohn.ousterhout@eng.sun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</a:pPr>
            <a:r>
              <a:rPr b="1" i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/Tk Tutorial, Part 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mbedding Tcl In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33520" y="1447920"/>
            <a:ext cx="43434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generates scrip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parses scripts, passes words to command procedure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 extends built-in command set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fine new object types in 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lement primitive operations as new Tcl command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complex features with Tcl scrip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1055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341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7913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426708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6201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3915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1629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934320" y="426708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181480" y="2819520"/>
            <a:ext cx="91440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934320" y="198108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6781680" y="266688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12408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3124080"/>
            <a:ext cx="0" cy="6098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715000" y="312408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791320" y="312408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3124080"/>
            <a:ext cx="0" cy="38124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8640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410080" y="3124080"/>
            <a:ext cx="0" cy="114300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34120" y="3124080"/>
            <a:ext cx="0" cy="7621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43600" y="312408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3429000"/>
            <a:ext cx="1752840" cy="838440"/>
          </a:xfrm>
          <a:custGeom>
            <a:avLst/>
            <a:gdLst/>
            <a:ahLst/>
            <a:rect l="0" t="0" r="r" b="b"/>
            <a:pathLst>
              <a:path fill="none" w="4869" h="2329">
                <a:moveTo>
                  <a:pt x="0" y="0"/>
                </a:moveTo>
                <a:lnTo>
                  <a:pt x="4869" y="0"/>
                </a:lnTo>
                <a:lnTo>
                  <a:pt x="4869" y="2329"/>
                </a:lnTo>
                <a:lnTo>
                  <a:pt x="4869" y="232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3505320"/>
            <a:ext cx="1600560" cy="762480"/>
          </a:xfrm>
          <a:custGeom>
            <a:avLst/>
            <a:gdLst/>
            <a:ahLst/>
            <a:rect l="0" t="0" r="r" b="b"/>
            <a:pathLst>
              <a:path fill="none" w="4446" h="2118">
                <a:moveTo>
                  <a:pt x="0" y="0"/>
                </a:moveTo>
                <a:lnTo>
                  <a:pt x="4446" y="0"/>
                </a:lnTo>
                <a:lnTo>
                  <a:pt x="4446" y="211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791320" y="3581280"/>
            <a:ext cx="1448280" cy="686160"/>
          </a:xfrm>
          <a:custGeom>
            <a:avLst/>
            <a:gdLst/>
            <a:ahLst/>
            <a:rect l="0" t="0" r="r" b="b"/>
            <a:pathLst>
              <a:path fill="none" w="4023" h="1906">
                <a:moveTo>
                  <a:pt x="0" y="0"/>
                </a:moveTo>
                <a:lnTo>
                  <a:pt x="4023" y="0"/>
                </a:lnTo>
                <a:lnTo>
                  <a:pt x="4023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715000" y="3657600"/>
            <a:ext cx="1295640" cy="609840"/>
          </a:xfrm>
          <a:custGeom>
            <a:avLst/>
            <a:gdLst/>
            <a:ahLst/>
            <a:rect l="0" t="0" r="r" b="b"/>
            <a:pathLst>
              <a:path fill="none" w="3599" h="1694">
                <a:moveTo>
                  <a:pt x="0" y="0"/>
                </a:moveTo>
                <a:lnTo>
                  <a:pt x="3599" y="0"/>
                </a:lnTo>
                <a:lnTo>
                  <a:pt x="3599" y="1694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638680" y="3733920"/>
            <a:ext cx="457560" cy="533880"/>
          </a:xfrm>
          <a:custGeom>
            <a:avLst/>
            <a:gdLst/>
            <a:ahLst/>
            <a:rect l="0" t="0" r="r" b="b"/>
            <a:pathLst>
              <a:path fill="none" w="1271" h="1483">
                <a:moveTo>
                  <a:pt x="0" y="0"/>
                </a:moveTo>
                <a:lnTo>
                  <a:pt x="1271" y="0"/>
                </a:lnTo>
                <a:lnTo>
                  <a:pt x="1271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562720" y="3809880"/>
            <a:ext cx="305280" cy="457560"/>
          </a:xfrm>
          <a:custGeom>
            <a:avLst/>
            <a:gdLst/>
            <a:ahLst/>
            <a:rect l="0" t="0" r="r" b="b"/>
            <a:pathLst>
              <a:path fill="none" w="848" h="1271">
                <a:moveTo>
                  <a:pt x="0" y="0"/>
                </a:moveTo>
                <a:lnTo>
                  <a:pt x="848" y="0"/>
                </a:lnTo>
                <a:lnTo>
                  <a:pt x="848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48640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0" y="0"/>
                </a:moveTo>
                <a:lnTo>
                  <a:pt x="424" y="0"/>
                </a:lnTo>
                <a:lnTo>
                  <a:pt x="424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181480" y="3886200"/>
            <a:ext cx="152640" cy="381240"/>
          </a:xfrm>
          <a:custGeom>
            <a:avLst/>
            <a:gdLst/>
            <a:ahLst/>
            <a:rect l="0" t="0" r="r" b="b"/>
            <a:pathLst>
              <a:path fill="none" w="424" h="1059">
                <a:moveTo>
                  <a:pt x="424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6095880" y="2971800"/>
            <a:ext cx="68580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91520" y="228600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38680" y="213372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772400" y="236232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553080" y="1905120"/>
            <a:ext cx="1676520" cy="32767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6629400" y="441972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952880" y="1905120"/>
            <a:ext cx="1371600" cy="32767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4952880" y="441972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495288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6705720" y="160020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4572000"/>
            <a:ext cx="7696080" cy="129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sions can be developed independentl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twork communication, database access, security,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can include combinations of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8098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384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2670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4956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733920"/>
            <a:ext cx="152280" cy="152280"/>
          </a:xfrm>
          <a:prstGeom prst="rect">
            <a:avLst/>
          </a:prstGeom>
          <a:solidFill>
            <a:srgbClr val="009688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63244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60958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8672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638680" y="3733920"/>
            <a:ext cx="152280" cy="152280"/>
          </a:xfrm>
          <a:prstGeom prst="rect">
            <a:avLst/>
          </a:prstGeom>
          <a:solidFill>
            <a:srgbClr val="97000a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3809880" y="2438280"/>
            <a:ext cx="1066680" cy="30492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Pars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638680" y="1600200"/>
            <a:ext cx="838080" cy="30492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5486400" y="2286000"/>
            <a:ext cx="1143000" cy="60948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Comm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Lo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41972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9568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64832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72428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67080" y="2743200"/>
            <a:ext cx="0" cy="6858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343400" y="2743200"/>
            <a:ext cx="0" cy="990720"/>
          </a:xfrm>
          <a:prstGeom prst="line">
            <a:avLst/>
          </a:prstGeom>
          <a:ln w="12600">
            <a:solidFill>
              <a:srgbClr val="009688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191120" y="2743200"/>
            <a:ext cx="0" cy="6094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8006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800600" y="3048120"/>
            <a:ext cx="1600560" cy="686160"/>
          </a:xfrm>
          <a:custGeom>
            <a:avLst/>
            <a:gdLst/>
            <a:ahLst/>
            <a:rect l="0" t="0" r="r" b="b"/>
            <a:pathLst>
              <a:path fill="none" w="4446" h="1906">
                <a:moveTo>
                  <a:pt x="0" y="0"/>
                </a:moveTo>
                <a:lnTo>
                  <a:pt x="4446" y="0"/>
                </a:lnTo>
                <a:lnTo>
                  <a:pt x="4446" y="1906"/>
                </a:lnTo>
                <a:lnTo>
                  <a:pt x="4446" y="1906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312408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0" y="0"/>
                </a:moveTo>
                <a:lnTo>
                  <a:pt x="4023" y="0"/>
                </a:lnTo>
                <a:lnTo>
                  <a:pt x="4023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648320" y="3200400"/>
            <a:ext cx="1295640" cy="533880"/>
          </a:xfrm>
          <a:custGeom>
            <a:avLst/>
            <a:gdLst/>
            <a:ahLst/>
            <a:rect l="0" t="0" r="r" b="b"/>
            <a:pathLst>
              <a:path fill="none" w="3599" h="1483">
                <a:moveTo>
                  <a:pt x="0" y="0"/>
                </a:moveTo>
                <a:lnTo>
                  <a:pt x="3599" y="0"/>
                </a:lnTo>
                <a:lnTo>
                  <a:pt x="3599" y="1483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45720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0" y="0"/>
                </a:moveTo>
                <a:lnTo>
                  <a:pt x="3176" y="0"/>
                </a:lnTo>
                <a:lnTo>
                  <a:pt x="3176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495680" y="33544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0" y="0"/>
                </a:moveTo>
                <a:lnTo>
                  <a:pt x="848" y="0"/>
                </a:lnTo>
                <a:lnTo>
                  <a:pt x="848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1972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0" y="0"/>
                </a:moveTo>
                <a:lnTo>
                  <a:pt x="424" y="0"/>
                </a:lnTo>
                <a:lnTo>
                  <a:pt x="424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114800" y="3429000"/>
            <a:ext cx="152640" cy="305280"/>
          </a:xfrm>
          <a:custGeom>
            <a:avLst/>
            <a:gdLst/>
            <a:ahLst/>
            <a:rect l="0" t="0" r="r" b="b"/>
            <a:pathLst>
              <a:path fill="none" w="424" h="848">
                <a:moveTo>
                  <a:pt x="424" y="0"/>
                </a:moveTo>
                <a:lnTo>
                  <a:pt x="0" y="0"/>
                </a:lnTo>
                <a:lnTo>
                  <a:pt x="0" y="848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3352680"/>
            <a:ext cx="305280" cy="381240"/>
          </a:xfrm>
          <a:custGeom>
            <a:avLst/>
            <a:gdLst/>
            <a:ahLst/>
            <a:rect l="0" t="0" r="r" b="b"/>
            <a:pathLst>
              <a:path fill="none" w="848" h="1059">
                <a:moveTo>
                  <a:pt x="848" y="0"/>
                </a:moveTo>
                <a:lnTo>
                  <a:pt x="0" y="0"/>
                </a:lnTo>
                <a:lnTo>
                  <a:pt x="0" y="105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4876920" y="2590920"/>
            <a:ext cx="609480" cy="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-51120" bIns="-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095880" y="1905120"/>
            <a:ext cx="0" cy="380880"/>
          </a:xfrm>
          <a:prstGeom prst="line">
            <a:avLst/>
          </a:prstGeom>
          <a:ln w="12600">
            <a:solidFill>
              <a:srgbClr val="97000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43400" y="1752480"/>
            <a:ext cx="1295640" cy="686160"/>
          </a:xfrm>
          <a:custGeom>
            <a:avLst/>
            <a:gdLst/>
            <a:ahLst/>
            <a:rect l="0" t="0" r="r" b="b"/>
            <a:pathLst>
              <a:path fill="none" w="3599" h="1906">
                <a:moveTo>
                  <a:pt x="3599" y="0"/>
                </a:moveTo>
                <a:lnTo>
                  <a:pt x="0" y="0"/>
                </a:lnTo>
                <a:lnTo>
                  <a:pt x="0" y="190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477120" y="1981080"/>
            <a:ext cx="305280" cy="609840"/>
          </a:xfrm>
          <a:custGeom>
            <a:avLst/>
            <a:gdLst/>
            <a:ahLst/>
            <a:rect l="0" t="0" r="r" b="b"/>
            <a:pathLst>
              <a:path fill="none" w="848" h="1694">
                <a:moveTo>
                  <a:pt x="424" y="1694"/>
                </a:moveTo>
                <a:lnTo>
                  <a:pt x="848" y="1694"/>
                </a:lnTo>
                <a:lnTo>
                  <a:pt x="848" y="0"/>
                </a:lnTo>
                <a:lnTo>
                  <a:pt x="0" y="0"/>
                </a:lnTo>
                <a:lnTo>
                  <a:pt x="0" y="846"/>
                </a:lnTo>
              </a:path>
            </a:pathLst>
          </a:custGeom>
          <a:ln w="12600">
            <a:solidFill>
              <a:srgbClr val="97000a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257800" y="1523880"/>
            <a:ext cx="1676520" cy="2971800"/>
          </a:xfrm>
          <a:prstGeom prst="rect">
            <a:avLst/>
          </a:prstGeom>
          <a:noFill/>
          <a:ln w="12600">
            <a:solidFill>
              <a:srgbClr val="97000a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334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657600" y="1523880"/>
            <a:ext cx="1371600" cy="2971800"/>
          </a:xfrm>
          <a:prstGeom prst="rect">
            <a:avLst/>
          </a:prstGeom>
          <a:noFill/>
          <a:ln w="12600">
            <a:solidFill>
              <a:srgbClr val="009688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3657600" y="3886200"/>
            <a:ext cx="137160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Built-I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365760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Tc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410080" y="1219320"/>
            <a:ext cx="137160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2209680" y="3733920"/>
            <a:ext cx="838080" cy="152280"/>
            <a:chOff x="2209680" y="3733920"/>
            <a:chExt cx="838080" cy="152280"/>
          </a:xfrm>
        </p:grpSpPr>
        <p:sp>
          <p:nvSpPr>
            <p:cNvPr id="195" name=""/>
            <p:cNvSpPr/>
            <p:nvPr/>
          </p:nvSpPr>
          <p:spPr>
            <a:xfrm>
              <a:off x="22096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382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6668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895480" y="3733920"/>
              <a:ext cx="152280" cy="152280"/>
            </a:xfrm>
            <a:prstGeom prst="rect">
              <a:avLst/>
            </a:prstGeom>
            <a:solidFill>
              <a:srgbClr val="081d75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"/>
          <p:cNvSpPr/>
          <p:nvPr/>
        </p:nvSpPr>
        <p:spPr>
          <a:xfrm>
            <a:off x="1981080" y="1523880"/>
            <a:ext cx="1295280" cy="2971800"/>
          </a:xfrm>
          <a:prstGeom prst="rect">
            <a:avLst/>
          </a:prstGeom>
          <a:noFill/>
          <a:ln w="12600">
            <a:solidFill>
              <a:srgbClr val="081d75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905120" y="3886200"/>
            <a:ext cx="1447920" cy="55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 Comman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981080" y="1219320"/>
            <a:ext cx="1295280" cy="32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85000"/>
              </a:lnSpc>
              <a:spcBef>
                <a:spcPts val="1199"/>
              </a:spcBef>
            </a:pPr>
            <a:r>
              <a:rPr b="1" lang="en-US" sz="18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Extens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2743200"/>
            <a:ext cx="0" cy="5335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4038480" y="2743200"/>
            <a:ext cx="0" cy="45720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743200"/>
            <a:ext cx="0" cy="38088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886200" y="2743200"/>
            <a:ext cx="0" cy="304920"/>
          </a:xfrm>
          <a:prstGeom prst="line">
            <a:avLst/>
          </a:prstGeom>
          <a:ln w="12600">
            <a:solidFill>
              <a:srgbClr val="00968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971800" y="3276720"/>
            <a:ext cx="1143360" cy="457560"/>
          </a:xfrm>
          <a:custGeom>
            <a:avLst/>
            <a:gdLst/>
            <a:ahLst/>
            <a:rect l="0" t="0" r="r" b="b"/>
            <a:pathLst>
              <a:path fill="none" w="3176" h="1271">
                <a:moveTo>
                  <a:pt x="3176" y="0"/>
                </a:moveTo>
                <a:lnTo>
                  <a:pt x="0" y="0"/>
                </a:lnTo>
                <a:lnTo>
                  <a:pt x="0" y="1271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743200" y="3198960"/>
            <a:ext cx="1295640" cy="535320"/>
          </a:xfrm>
          <a:custGeom>
            <a:avLst/>
            <a:gdLst/>
            <a:ahLst/>
            <a:rect l="0" t="0" r="r" b="b"/>
            <a:pathLst>
              <a:path fill="none" w="3599" h="1487">
                <a:moveTo>
                  <a:pt x="3599" y="0"/>
                </a:moveTo>
                <a:lnTo>
                  <a:pt x="0" y="7"/>
                </a:lnTo>
                <a:lnTo>
                  <a:pt x="0" y="1487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3122640"/>
            <a:ext cx="1448280" cy="611640"/>
          </a:xfrm>
          <a:custGeom>
            <a:avLst/>
            <a:gdLst/>
            <a:ahLst/>
            <a:rect l="0" t="0" r="r" b="b"/>
            <a:pathLst>
              <a:path fill="none" w="4023" h="1699">
                <a:moveTo>
                  <a:pt x="4023" y="0"/>
                </a:moveTo>
                <a:lnTo>
                  <a:pt x="0" y="7"/>
                </a:lnTo>
                <a:lnTo>
                  <a:pt x="0" y="1699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286000" y="3046320"/>
            <a:ext cx="1600560" cy="687600"/>
          </a:xfrm>
          <a:custGeom>
            <a:avLst/>
            <a:gdLst/>
            <a:ahLst/>
            <a:rect l="0" t="0" r="r" b="b"/>
            <a:pathLst>
              <a:path fill="none" w="4446" h="1910">
                <a:moveTo>
                  <a:pt x="4446" y="7"/>
                </a:moveTo>
                <a:lnTo>
                  <a:pt x="0" y="0"/>
                </a:lnTo>
                <a:lnTo>
                  <a:pt x="0" y="1910"/>
                </a:lnTo>
              </a:path>
            </a:pathLst>
          </a:custGeom>
          <a:ln w="12600">
            <a:solidFill>
              <a:srgbClr val="009688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he Tk Toolk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533520" y="1447920"/>
            <a:ext cx="78487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ble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o hard to build applications with nice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wrong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++, object-oriented toolki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small improvement (10-20%?): must stil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 at a low le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right solu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reating User Interfaces With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dditional Tcl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Motif-lik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range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ind events to Tcl comma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nipulate X selection, focus, window manager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brary of C procedu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widget cla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new geometry manager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cl interpret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-specific C code (primitives!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object typ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 widge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s (compose primitives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user interfa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pond to ev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at's A Tk-Based Applic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191120" y="3124080"/>
            <a:ext cx="152640" cy="915120"/>
            <a:chOff x="4191120" y="3124080"/>
            <a:chExt cx="152640" cy="915120"/>
          </a:xfrm>
        </p:grpSpPr>
        <p:sp>
          <p:nvSpPr>
            <p:cNvPr id="217" name=""/>
            <p:cNvSpPr/>
            <p:nvPr/>
          </p:nvSpPr>
          <p:spPr>
            <a:xfrm>
              <a:off x="4191120" y="31240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213" y="213"/>
                  </a:moveTo>
                  <a:lnTo>
                    <a:pt x="213" y="213"/>
                  </a:lnTo>
                  <a:lnTo>
                    <a:pt x="213" y="213"/>
                  </a:lnTo>
                  <a:cubicBezTo>
                    <a:pt x="213" y="176"/>
                    <a:pt x="203" y="139"/>
                    <a:pt x="184" y="106"/>
                  </a:cubicBezTo>
                  <a:cubicBezTo>
                    <a:pt x="166" y="74"/>
                    <a:pt x="139" y="47"/>
                    <a:pt x="106" y="29"/>
                  </a:cubicBezTo>
                  <a:cubicBezTo>
                    <a:pt x="74" y="10"/>
                    <a:pt x="37" y="0"/>
                    <a:pt x="0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191120" y="39625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267080" y="358128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213"/>
                  </a:moveTo>
                  <a:lnTo>
                    <a:pt x="0" y="213"/>
                  </a:lnTo>
                  <a:cubicBezTo>
                    <a:pt x="37" y="213"/>
                    <a:pt x="74" y="203"/>
                    <a:pt x="107" y="184"/>
                  </a:cubicBezTo>
                  <a:cubicBezTo>
                    <a:pt x="139" y="166"/>
                    <a:pt x="166" y="139"/>
                    <a:pt x="184" y="107"/>
                  </a:cubicBezTo>
                  <a:cubicBezTo>
                    <a:pt x="203" y="74"/>
                    <a:pt x="213" y="37"/>
                    <a:pt x="213" y="0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67080" y="36576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267080" y="3200400"/>
              <a:ext cx="0" cy="304920"/>
            </a:xfrm>
            <a:prstGeom prst="line">
              <a:avLst/>
            </a:prstGeom>
            <a:ln w="12600">
              <a:solidFill>
                <a:srgbClr val="97000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267080" y="3505320"/>
              <a:ext cx="76680" cy="76680"/>
            </a:xfrm>
            <a:custGeom>
              <a:avLst/>
              <a:gdLst/>
              <a:ahLst/>
              <a:rect l="0" t="0" r="r" b="b"/>
              <a:pathLst>
                <a:path fill="none" w="213" h="213">
                  <a:moveTo>
                    <a:pt x="0" y="0"/>
                  </a:moveTo>
                  <a:lnTo>
                    <a:pt x="0" y="0"/>
                  </a:lnTo>
                  <a:cubicBezTo>
                    <a:pt x="0" y="37"/>
                    <a:pt x="10" y="74"/>
                    <a:pt x="29" y="107"/>
                  </a:cubicBezTo>
                  <a:cubicBezTo>
                    <a:pt x="47" y="139"/>
                    <a:pt x="74" y="166"/>
                    <a:pt x="107" y="184"/>
                  </a:cubicBezTo>
                  <a:cubicBezTo>
                    <a:pt x="139" y="203"/>
                    <a:pt x="176" y="213"/>
                    <a:pt x="213" y="213"/>
                  </a:cubicBezTo>
                </a:path>
              </a:pathLst>
            </a:custGeom>
            <a:ln w="12600">
              <a:solidFill>
                <a:srgbClr val="97000a"/>
              </a:solidFill>
              <a:round/>
            </a:ln>
          </p:spPr>
          <p:txBody>
            <a:bodyPr lIns="96120" rIns="9612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3" name=""/>
          <p:cNvSpPr txBox="1"/>
          <p:nvPr/>
        </p:nvSpPr>
        <p:spPr>
          <a:xfrm>
            <a:off x="4343400" y="3382920"/>
            <a:ext cx="236232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comman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ish: Windowing Shel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user interfaces by writing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ello, worl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button .hello -text "Hello, world" -command ex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1800" spc="-1" strike="noStrike">
                <a:solidFill>
                  <a:srgbClr val="009688"/>
                </a:solidFill>
                <a:latin typeface="Courier New"/>
                <a:ea typeface="Courier New"/>
              </a:rPr>
              <a:t>pack .hel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directory browser: 3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eb browser: 2000 l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x less code for simpl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1203480" y="3246480"/>
            <a:ext cx="1380960" cy="78408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6022800" y="3025800"/>
            <a:ext cx="20988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Browser Wish Scrip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15228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#!/usr/local/bin/wish4.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box .list -yscroll ".scroll set"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-width 20 -height 2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list -side lef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crollbar .scroll -command \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".list yview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pack .scroll -side right -fill 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{$argc &gt; 0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[lindex $argv 0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dir 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foreach i [lsort [glob * .*]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.list insert end $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1"/>
              </a:spcBef>
            </a:pPr>
            <a:r>
              <a:rPr b="1" lang="en-US" sz="1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4648320" y="1447920"/>
            <a:ext cx="4267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.list &lt;Double-ButtonPress-1&gt;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rowse $dir [selection get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97000a"/>
                </a:solidFill>
                <a:latin typeface="Courier New"/>
                <a:ea typeface="Courier New"/>
              </a:rPr>
              <a:t>bind all &lt;Control-c&gt; {destroy .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proc browse {dir file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$dir != "."}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set file $dir/$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{file isdirectory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browse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if [file isfile $file]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xec xedit $file &amp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 else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error "can't browse $file"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 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   </a:t>
            </a:r>
            <a:r>
              <a:rPr b="1" lang="en-US" sz="1400" spc="-1" strike="noStrike">
                <a:solidFill>
                  <a:srgbClr val="081d75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ther Uses For Tcl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a representati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data on disk as Tcl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load information, evaluate scri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ore scripts in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valuate scripts at interesting times to give objects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munication: send Tcl scripts between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able cont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, Web p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g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533520" y="144792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s on all UNIX/X platform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/Mac alpha releases: September 1995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urce and documentation freely avail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,000 developers world-wid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undreds of commercial products, free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wsgroup: comp.lang.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introductory books (Ousterhout, Welc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Representative Applic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ltimedia, groupw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e-mail messag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ystem administr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cientific applications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strument control, simulation, visualization, CA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al-time control system for offshore platfo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ritish teletext syste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ature animation at Walt Disney Studi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-air broadcast control system for NB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Introdu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onent technologi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: embeddable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: GUI toolkit and widgets based o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inciple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universal scripting languag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s everything: functions, interfaces, commun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68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aise the level of X programmin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impler, 5-10x faster application developm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reater pow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more things programmable, application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Active object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place data with scri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vailable via public FTP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://ftp.aud.alcatel.com/tc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Expec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remote control for interactive programs such a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t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telne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rypt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fsck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601"/>
              </a:spcBef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#!/usr/local/bin/ex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pawn rlogin [lindex $argv 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cd [pwd]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ect -re "($|#|%) 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nd "setenv DISPLAY $env(DISPLAY)\r"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X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general-purpose exten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OSIX system ca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eyed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ile scanning (similar to awk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ate/time manipul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bugging, help, profil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Ora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Syb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access to commercial databa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r tcl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object-oriented programming in Tc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opular Extensions, cont'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533520" y="144792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-DP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ocket-based remote procedure calls, distributed objec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myId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GetId {}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global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ncr 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return $my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MakeRPCServer 454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ample cli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server [dp_MakeRPCClient foo.bar.com 4545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dp_rpc $server Get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Where You Might Use Tcl and T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533520" y="1600200"/>
            <a:ext cx="76960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ing graphical user interfa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st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that need scripting or extension facilit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latform-independent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Drawbac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ust learn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new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substitution rules confusing to some peop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d language ha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erformance limits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but surprisingly high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9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interfaces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incompatibl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with Xt, Motif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Plans For The Fu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533520" y="1371600"/>
            <a:ext cx="769608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ase accessibil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ore work on PC/Mac ports (native look and feel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pecTcl: interactive GUI buil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development tools (debugger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rove the language/toolki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remental on-the-fly compil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support for modules, data struc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tter internationalization (Asian character set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reate exciting Internet applica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document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igh-level programm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ss to lear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uild applications more quick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niversal scripting languag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tend and modify applications at run-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ke many things work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scripts instead of dat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tive objects, executable conte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</a:pP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Tcl + Tk = shell of the 1990'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Outlin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cl scripting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toolk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k applic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rvey of applications and exten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lu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533520" y="1676520"/>
            <a:ext cx="769608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programs need command langu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ypically redone for each applic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ult: weak, quirk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ema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cs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powerful, but can't re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4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lution: </a:t>
            </a:r>
            <a:r>
              <a:rPr b="1" lang="en-US" sz="24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reusable scripting languag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preter is a C libr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vides basic features: variables, procedur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s extend with additional feat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Scripting Language Philosop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304920" y="3124080"/>
            <a:ext cx="40384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rge, complex application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ed structur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prevent ba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495680" y="3124080"/>
            <a:ext cx="449568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active commands, scripting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erformance less important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um structure: less overhead, easy interchang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4480" indent="-2872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2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Goal: enable good thing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457200" y="1447920"/>
            <a:ext cx="7696080" cy="990720"/>
            <a:chOff x="457200" y="1447920"/>
            <a:chExt cx="7696080" cy="990720"/>
          </a:xfrm>
        </p:grpSpPr>
        <p:sp>
          <p:nvSpPr>
            <p:cNvPr id="91" name=""/>
            <p:cNvSpPr/>
            <p:nvPr/>
          </p:nvSpPr>
          <p:spPr>
            <a:xfrm>
              <a:off x="533520" y="1828800"/>
              <a:ext cx="7544160" cy="609840"/>
            </a:xfrm>
            <a:custGeom>
              <a:avLst/>
              <a:gdLst/>
              <a:ahLst/>
              <a:rect l="0" t="0" r="r" b="b"/>
              <a:pathLst>
                <a:path w="20956" h="1694">
                  <a:moveTo>
                    <a:pt x="0" y="0"/>
                  </a:moveTo>
                  <a:lnTo>
                    <a:pt x="1848" y="0"/>
                  </a:lnTo>
                  <a:lnTo>
                    <a:pt x="2465" y="338"/>
                  </a:lnTo>
                  <a:lnTo>
                    <a:pt x="19723" y="338"/>
                  </a:lnTo>
                  <a:lnTo>
                    <a:pt x="19723" y="0"/>
                  </a:lnTo>
                  <a:lnTo>
                    <a:pt x="20956" y="846"/>
                  </a:lnTo>
                  <a:lnTo>
                    <a:pt x="19723" y="1694"/>
                  </a:lnTo>
                  <a:lnTo>
                    <a:pt x="19723" y="1355"/>
                  </a:lnTo>
                  <a:lnTo>
                    <a:pt x="2465" y="1355"/>
                  </a:lnTo>
                  <a:lnTo>
                    <a:pt x="1848" y="1694"/>
                  </a:lnTo>
                  <a:lnTo>
                    <a:pt x="0" y="1694"/>
                  </a:lnTo>
                  <a:lnTo>
                    <a:pt x="1232" y="84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7187b1"/>
                </a:gs>
                <a:gs pos="100000">
                  <a:srgbClr val="a2c1fe"/>
                </a:gs>
              </a:gsLst>
              <a:lin ang="0"/>
            </a:gra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 txBox="1"/>
            <p:nvPr/>
          </p:nvSpPr>
          <p:spPr>
            <a:xfrm>
              <a:off x="2628720" y="1447920"/>
              <a:ext cx="38098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20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Program size, complexity, reu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 txBox="1"/>
            <p:nvPr/>
          </p:nvSpPr>
          <p:spPr>
            <a:xfrm>
              <a:off x="723888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 algn="r"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Times New Roman"/>
                  <a:ea typeface="Times New Roman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457200" y="1447920"/>
              <a:ext cx="914400" cy="36684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</a:pPr>
              <a:r>
                <a:rPr b="0" lang="en-US" sz="1800" spc="-1" strike="noStrike">
                  <a:solidFill>
                    <a:srgbClr val="97000a"/>
                  </a:solidFill>
                  <a:latin typeface="Symbol"/>
                  <a:ea typeface="Symbol"/>
                </a:rPr>
                <a:t>∞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380880" y="5334120"/>
            <a:ext cx="76960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2400" spc="-1" strike="noStrike">
                <a:solidFill>
                  <a:srgbClr val="009688"/>
                </a:solidFill>
                <a:latin typeface="Times New Roman"/>
                <a:ea typeface="Times New Roman"/>
              </a:rPr>
              <a:t>One language can't meet all need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wo-Language Approac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304920" y="3352680"/>
            <a:ext cx="7696080" cy="251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se Tcl for scripting, C or C++ for large thing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oals for Tc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yntax: easy to learn and typ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nimal structure: make things play togeth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interfaces to C: extensibilit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520" y="1676520"/>
            <a:ext cx="7544160" cy="609840"/>
          </a:xfrm>
          <a:custGeom>
            <a:avLst/>
            <a:gdLst/>
            <a:ahLst/>
            <a:rect l="0" t="0" r="r" b="b"/>
            <a:pathLst>
              <a:path w="20956" h="1694">
                <a:moveTo>
                  <a:pt x="0" y="0"/>
                </a:moveTo>
                <a:lnTo>
                  <a:pt x="1848" y="0"/>
                </a:lnTo>
                <a:lnTo>
                  <a:pt x="2465" y="338"/>
                </a:lnTo>
                <a:lnTo>
                  <a:pt x="19723" y="338"/>
                </a:lnTo>
                <a:lnTo>
                  <a:pt x="19723" y="0"/>
                </a:lnTo>
                <a:lnTo>
                  <a:pt x="20956" y="846"/>
                </a:lnTo>
                <a:lnTo>
                  <a:pt x="19723" y="1694"/>
                </a:lnTo>
                <a:lnTo>
                  <a:pt x="19723" y="1355"/>
                </a:lnTo>
                <a:lnTo>
                  <a:pt x="2465" y="1355"/>
                </a:lnTo>
                <a:lnTo>
                  <a:pt x="1848" y="1694"/>
                </a:lnTo>
                <a:lnTo>
                  <a:pt x="0" y="1694"/>
                </a:lnTo>
                <a:lnTo>
                  <a:pt x="1232" y="84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7187b1"/>
              </a:gs>
              <a:gs pos="100000">
                <a:srgbClr val="a2c1fe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2628720" y="1295280"/>
            <a:ext cx="38098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0" lang="en-US" sz="20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Program size, complexity, re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23888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Times New Roman"/>
                <a:ea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295280"/>
            <a:ext cx="91440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1199"/>
              </a:spcBef>
            </a:pPr>
            <a:r>
              <a:rPr b="0" lang="en-US" sz="1800" spc="-1" strike="noStrike">
                <a:solidFill>
                  <a:srgbClr val="97000a"/>
                </a:solidFill>
                <a:latin typeface="Symbol"/>
                <a:ea typeface="Symbol"/>
              </a:rPr>
              <a:t>∞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2514600"/>
            <a:ext cx="4343400" cy="0"/>
          </a:xfrm>
          <a:prstGeom prst="line">
            <a:avLst/>
          </a:prstGeom>
          <a:ln w="38160">
            <a:solidFill>
              <a:srgbClr val="063de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895480"/>
            <a:ext cx="4267440" cy="0"/>
          </a:xfrm>
          <a:prstGeom prst="line">
            <a:avLst/>
          </a:prstGeom>
          <a:ln w="38160">
            <a:solidFill>
              <a:srgbClr val="fc0128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533520" y="2514600"/>
            <a:ext cx="434340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063de8"/>
                </a:solidFill>
                <a:latin typeface="Times New Roman"/>
                <a:ea typeface="Times New Roman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3809880" y="2514600"/>
            <a:ext cx="42670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</a:pPr>
            <a:r>
              <a:rPr b="1" lang="en-US" sz="20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Tcl: Tool Command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533520" y="1447920"/>
            <a:ext cx="79246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mple syntax (similar to sh, C, Lisp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a 47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bstitu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$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[expr $a+10]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5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63de8"/>
              </a:buClr>
              <a:buSzPct val="75000"/>
              <a:buFont typeface="Monotype Sorts"/>
              <a:buChar char=""/>
              <a:tabLst>
                <a:tab algn="l" pos="4228920"/>
                <a:tab algn="l" pos="474192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Quot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"a is $a"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a is 4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Monotype Sorts"/>
              <a:buChar char=" "/>
              <a:tabLst>
                <a:tab algn="l" pos="3828960"/>
                <a:tab algn="l" pos="434196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set b {[expr $a+10]} </a:t>
            </a:r>
            <a:r>
              <a:rPr b="0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[expr $a+10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More On The Tcl Languag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533520" y="1295280"/>
            <a:ext cx="76960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ch set of built-in command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ariables, associative arrays, lis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-like express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itionals, looping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if "$x &lt; 3"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puts "x is too small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143000" indent="-228600">
              <a:lnSpc>
                <a:spcPct val="100000"/>
              </a:lnSpc>
            </a:pPr>
            <a:r>
              <a:rPr b="1" lang="en-US" sz="20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du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cess to UNIX files, subprocess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63de8"/>
              </a:buClr>
              <a:buSzPct val="75000"/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ly representation is string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asy access from 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241"/>
              </a:spcBef>
              <a:buClr>
                <a:srgbClr val="000000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grams and data interchange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533520" y="38160"/>
            <a:ext cx="762012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3600" spc="-1" strike="noStrike">
                <a:solidFill>
                  <a:srgbClr val="081d75"/>
                </a:solidFill>
                <a:latin typeface="Times New Roman"/>
                <a:ea typeface="Times New Roman"/>
              </a:rPr>
              <a:t>Factorial Proced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533520" y="1447920"/>
            <a:ext cx="76960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proc fac x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if $x&lt;=1 {return 1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expr $x*[fac [expr $x-1]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1082520"/>
                <a:tab algn="l" pos="1486080"/>
              </a:tabLst>
            </a:pPr>
            <a:r>
              <a:rPr b="1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fac 4 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➭</a:t>
            </a:r>
            <a:r>
              <a:rPr b="0" lang="en-US" sz="2400" spc="-1" strike="noStrike">
                <a:solidFill>
                  <a:srgbClr val="009688"/>
                </a:solidFill>
                <a:latin typeface="Courier New"/>
                <a:ea typeface="Courier New"/>
              </a:rPr>
              <a:t>	</a:t>
            </a:r>
            <a:r>
              <a:rPr b="1" lang="en-US" sz="2400" spc="-1" strike="noStrike">
                <a:solidFill>
                  <a:srgbClr val="97000a"/>
                </a:solidFill>
                <a:latin typeface="Courier New"/>
                <a:ea typeface="Courier New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hn Ousterhout</dc:creator>
  <dc:description>First of four talks in all-day Tcl/Tk tutorial.</dc:description>
  <dc:language>en-US</dc:language>
  <cp:lastModifiedBy>Sun Microsystems</cp:lastModifiedBy>
  <cp:revision>0</cp:revision>
  <dc:subject/>
  <dc:title>An Overview of Tcl and Tk</dc:title>
</cp:coreProperties>
</file>