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V: Tcl C Interfa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1F8BF15-011A-4462-9A97-C2971ADA4EE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riting Tcl-Based Applications In 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65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33520" y="12952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rite command procedure in 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ClientData clientData, Tcl_Inter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*interp, int argc, char **argv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argc != 3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wrong # args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return TCL_ERROR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(strcmp(argv[1], argv[2]) == 0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1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 else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terp-&gt;result = "0"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OK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New Tcl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33520" y="17524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ister with interpre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(ClientData) NULL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Command(interp, "eq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ce registered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Cm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wheneve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q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is invok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lientDa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1295280"/>
            <a:ext cx="78487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interp, "eq", EqCmd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EqCmd(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lientData clientData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, ...) {...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pass any one-word value to command procedures and other callbac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usually a pointer to data structure manipulated by proced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st pointers in and out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lientDat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yp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Command(... (ClientData) gizmoPtr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izmoPtr = (Gizmo *) clientData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ventions For Packag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make it easy to develop and use Tcl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Use package prefixes to prevent name confli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ck short prefix for package, e.g.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in all global nam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procedur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Op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variable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NumRecor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: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qu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e Tcl book and Tcl/Tk Engineering Manual for more deta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Create package initialization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d after package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package'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772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s startup script, if an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7760" indent="-347760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Rdb_Init(Tcl_Interp *interp)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cl_CreateCommand(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Tcl_EvalFile(interp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"/usr/local/lib/rdb/init.tcl"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ackag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371600"/>
            <a:ext cx="80010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To use pack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1199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ile as shared library, e.g. on Solaris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c -K pic -c rdb.c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d -G -z text rdb.o -o rdb.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ally load into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wi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br>
              <a:rPr sz="24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oad rdb.so R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24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b_Ini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initialize the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anaging The Result Str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conventions f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mit results of any lengt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verheads if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oid storage reclamation proble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as simple as poss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state of interpreter (e.g., whenever command procedure is invoked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: command returns empty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76920" y="41148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324480" y="42670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95288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410080" y="50292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324480" y="45720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95288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178600" y="51544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083360" y="4392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2280" y="5078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102280" y="49258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178600" y="4925880"/>
            <a:ext cx="190476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08336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7159680" y="44686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702480" y="43927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659640" y="43513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102280" y="50022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3048120" y="41911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67080" y="43736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1447920"/>
            <a:ext cx="70866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1: (semi-) static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"0"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0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2: use pre-allocated space in inter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printf(interp-&gt;result, "Value is %d", i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429000" y="2286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6920" y="2438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350532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962520" y="3200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876920" y="2743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3505320" y="2666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211720" y="251928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600200" y="2362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819520" y="2544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3429000" y="45720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47242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350532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3962520" y="54864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Value is 2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876920" y="502920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3505320" y="49528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30680" y="56116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635800" y="48499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654360" y="55357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4360" y="538308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0680" y="5383080"/>
            <a:ext cx="190512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5635800" y="53071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5711760" y="49258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254560" y="4849920"/>
            <a:ext cx="381240" cy="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5211720" y="48085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54360" y="54594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600200" y="46483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2819520" y="4830840"/>
            <a:ext cx="60948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257800" y="255888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6172200" y="2376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0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5715000" y="560700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400800" y="54244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~200 by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sult Str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3: allocate new space for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 = malloc(2000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freeProc = fre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5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will call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if not NULL) to dispose of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chanism supports storage allocators other tha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all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505320" y="2743200"/>
            <a:ext cx="2438280" cy="121932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2880" y="2895480"/>
            <a:ext cx="76212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58128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038480" y="3657600"/>
            <a:ext cx="16765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952880" y="3200400"/>
            <a:ext cx="762120" cy="259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581280" y="3124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freePro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288040" y="2979720"/>
            <a:ext cx="76320" cy="76320"/>
          </a:xfrm>
          <a:prstGeom prst="ellipse">
            <a:avLst/>
          </a:prstGeom>
          <a:solidFill>
            <a:srgbClr val="0000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1676520" y="2819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95480" y="3002040"/>
            <a:ext cx="60984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334120" y="3019320"/>
            <a:ext cx="990360" cy="0"/>
          </a:xfrm>
          <a:prstGeom prst="line">
            <a:avLst/>
          </a:prstGeom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6324480" y="2638440"/>
            <a:ext cx="838080" cy="1704960"/>
          </a:xfrm>
          <a:prstGeom prst="round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 For Managing Resul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 4: use library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Result(interp, string, ...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Result(interp, string,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tring, ... string, (char *) NULL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AppendElement(interp, string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ResetResult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hilosophy: focus o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s: interpreters, executing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ing new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packages; dynamic loa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ing the result str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ful library procedures: parsing, variables, lists, hash t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Pars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by command procedures to parse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value, cod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GetInt(interp, argv[1], &amp;value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s integer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O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parse error, return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ERRO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leaves message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976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Double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Dou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GetBoolean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Boole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286236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Long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xprStr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Utility Procedures: Variab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, write, and uns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char *value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value = Tcl_GetVar(interp, "a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etVar(interp, "a", "new", ...);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UnsetVar(interp, "a", ..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tra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TraceVar(interp, "a"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CL_TRACE_READS|TCL_TRACE_WRITES,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traceProc, clientData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race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ll be called during each read or write of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monitor ac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override value read or writte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tility 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ing, assembling proper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SplitLis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Merg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exible hash t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itHashTabl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Crea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Find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Entry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HashTabl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Ini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AppendElement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Value(...)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StringFree(..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faces to C are simple: Tcl was designed to make this tru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cus on primitives, use Tcl scripts to compose fanc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295280"/>
            <a:ext cx="83059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ually better to write Tcl scripts than C c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aster development (higher level, no compila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flex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y write 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access to low-level facilities (sockets?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ficiency concerns (iterative calculation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more structure (code is complex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new Tcl commands that provide a few simple orthogonal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imitive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-level to provide independent access to all key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to hide unimportant details, allow efficient implemen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: Weather Repor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219320"/>
            <a:ext cx="83059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: retrieve weather reports over network from serv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report, format, print 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ndard outp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2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en socket to weather serv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lect st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rieve first line of report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set #3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 list of available st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iven station name, retrieve re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5791320" y="2209680"/>
            <a:ext cx="152640" cy="686520"/>
            <a:chOff x="5791320" y="2209680"/>
            <a:chExt cx="152640" cy="686520"/>
          </a:xfrm>
        </p:grpSpPr>
        <p:sp>
          <p:nvSpPr>
            <p:cNvPr id="88" name=""/>
            <p:cNvSpPr/>
            <p:nvPr/>
          </p:nvSpPr>
          <p:spPr>
            <a:xfrm>
              <a:off x="5791320" y="22096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791320" y="28386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867280" y="255276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867280" y="26100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867280" y="226692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867280" y="249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5791320" y="3505320"/>
            <a:ext cx="152640" cy="1067040"/>
            <a:chOff x="5791320" y="3505320"/>
            <a:chExt cx="152640" cy="1067040"/>
          </a:xfrm>
        </p:grpSpPr>
        <p:sp>
          <p:nvSpPr>
            <p:cNvPr id="95" name=""/>
            <p:cNvSpPr/>
            <p:nvPr/>
          </p:nvSpPr>
          <p:spPr>
            <a:xfrm>
              <a:off x="5791320" y="350532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213" y="248"/>
                  </a:moveTo>
                  <a:lnTo>
                    <a:pt x="213" y="248"/>
                  </a:lnTo>
                  <a:lnTo>
                    <a:pt x="213" y="248"/>
                  </a:lnTo>
                  <a:cubicBezTo>
                    <a:pt x="213" y="204"/>
                    <a:pt x="203" y="162"/>
                    <a:pt x="184" y="124"/>
                  </a:cubicBezTo>
                  <a:cubicBezTo>
                    <a:pt x="166" y="86"/>
                    <a:pt x="139" y="55"/>
                    <a:pt x="106" y="33"/>
                  </a:cubicBezTo>
                  <a:cubicBezTo>
                    <a:pt x="74" y="11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791320" y="44830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403848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248"/>
                  </a:moveTo>
                  <a:lnTo>
                    <a:pt x="0" y="248"/>
                  </a:lnTo>
                  <a:cubicBezTo>
                    <a:pt x="37" y="248"/>
                    <a:pt x="74" y="237"/>
                    <a:pt x="107" y="215"/>
                  </a:cubicBezTo>
                  <a:cubicBezTo>
                    <a:pt x="139" y="193"/>
                    <a:pt x="166" y="162"/>
                    <a:pt x="184" y="124"/>
                  </a:cubicBezTo>
                  <a:cubicBezTo>
                    <a:pt x="203" y="86"/>
                    <a:pt x="213" y="44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867280" y="4127400"/>
              <a:ext cx="0" cy="35568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867280" y="3594240"/>
              <a:ext cx="0" cy="3553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867280" y="3949560"/>
              <a:ext cx="76680" cy="89280"/>
            </a:xfrm>
            <a:custGeom>
              <a:avLst/>
              <a:gdLst/>
              <a:ahLst/>
              <a:rect l="0" t="0" r="r" b="b"/>
              <a:pathLst>
                <a:path fill="none" w="213" h="248">
                  <a:moveTo>
                    <a:pt x="0" y="0"/>
                  </a:moveTo>
                  <a:lnTo>
                    <a:pt x="0" y="0"/>
                  </a:lnTo>
                  <a:cubicBezTo>
                    <a:pt x="0" y="44"/>
                    <a:pt x="10" y="86"/>
                    <a:pt x="29" y="124"/>
                  </a:cubicBezTo>
                  <a:cubicBezTo>
                    <a:pt x="47" y="162"/>
                    <a:pt x="74" y="193"/>
                    <a:pt x="107" y="215"/>
                  </a:cubicBezTo>
                  <a:cubicBezTo>
                    <a:pt x="139" y="237"/>
                    <a:pt x="176" y="248"/>
                    <a:pt x="213" y="248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38160" bIns="38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791320" y="5105520"/>
            <a:ext cx="152640" cy="686160"/>
            <a:chOff x="5791320" y="5105520"/>
            <a:chExt cx="152640" cy="686160"/>
          </a:xfrm>
        </p:grpSpPr>
        <p:sp>
          <p:nvSpPr>
            <p:cNvPr id="102" name=""/>
            <p:cNvSpPr/>
            <p:nvPr/>
          </p:nvSpPr>
          <p:spPr>
            <a:xfrm>
              <a:off x="5791320" y="510552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213" y="160"/>
                  </a:moveTo>
                  <a:lnTo>
                    <a:pt x="213" y="160"/>
                  </a:lnTo>
                  <a:lnTo>
                    <a:pt x="213" y="160"/>
                  </a:lnTo>
                  <a:cubicBezTo>
                    <a:pt x="213" y="132"/>
                    <a:pt x="203" y="104"/>
                    <a:pt x="184" y="80"/>
                  </a:cubicBezTo>
                  <a:cubicBezTo>
                    <a:pt x="166" y="56"/>
                    <a:pt x="139" y="35"/>
                    <a:pt x="106" y="21"/>
                  </a:cubicBezTo>
                  <a:cubicBezTo>
                    <a:pt x="74" y="7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791320" y="573408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7280" y="544824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160"/>
                  </a:moveTo>
                  <a:lnTo>
                    <a:pt x="0" y="160"/>
                  </a:lnTo>
                  <a:cubicBezTo>
                    <a:pt x="37" y="160"/>
                    <a:pt x="74" y="153"/>
                    <a:pt x="107" y="139"/>
                  </a:cubicBezTo>
                  <a:cubicBezTo>
                    <a:pt x="139" y="125"/>
                    <a:pt x="166" y="104"/>
                    <a:pt x="184" y="80"/>
                  </a:cubicBezTo>
                  <a:cubicBezTo>
                    <a:pt x="203" y="56"/>
                    <a:pt x="213" y="28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867280" y="550548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867280" y="5162400"/>
              <a:ext cx="0" cy="2286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867280" y="5391000"/>
              <a:ext cx="76680" cy="57600"/>
            </a:xfrm>
            <a:custGeom>
              <a:avLst/>
              <a:gdLst/>
              <a:ahLst/>
              <a:rect l="0" t="0" r="r" b="b"/>
              <a:pathLst>
                <a:path fill="none" w="213" h="160">
                  <a:moveTo>
                    <a:pt x="0" y="0"/>
                  </a:moveTo>
                  <a:lnTo>
                    <a:pt x="0" y="0"/>
                  </a:lnTo>
                  <a:cubicBezTo>
                    <a:pt x="0" y="28"/>
                    <a:pt x="10" y="56"/>
                    <a:pt x="29" y="80"/>
                  </a:cubicBezTo>
                  <a:cubicBezTo>
                    <a:pt x="47" y="104"/>
                    <a:pt x="74" y="125"/>
                    <a:pt x="107" y="139"/>
                  </a:cubicBezTo>
                  <a:cubicBezTo>
                    <a:pt x="139" y="153"/>
                    <a:pt x="176" y="160"/>
                    <a:pt x="213" y="16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6480" bIns="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"/>
          <p:cNvSpPr txBox="1"/>
          <p:nvPr/>
        </p:nvSpPr>
        <p:spPr>
          <a:xfrm>
            <a:off x="5943600" y="23623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high-level (inflexib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943600" y="38401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o low-level (tediou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943600" y="525780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ust 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ose textual names for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ile3 or std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hash tables to map to C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bject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dlg.bottom.ok configure -fg r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for small numbers of well-defin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esn't pollute nam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similar commands for different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2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on-orien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compare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od if many objects or short-liv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signing New Command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matting command 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easy to parse with Tcl script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mp 53 hi 68 lo 37 precip .02 sky pa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them symbolic wherever possible, e.g. not</a:t>
            </a:r>
            <a:br>
              <a:rPr sz="2400"/>
            </a:b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53 68 37 .02 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age prefixes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command names and global variab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station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thr_repor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midi_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ows packages to coexist without name clas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erpret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cl_Interp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ucture encapsulates execution st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implemented in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ion sta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have many interpreters in a single application (but usually just on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and deleting interpre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Interp *inter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 = Tcl_CreateInterp(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DeleteInterp(interp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ecuting Tcl Scrip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 cod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(interp, "set a 1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de = Tcl_EvalFile(interp, "init.tcl"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ndicates success or fail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O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normal comple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CL_ERRO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error occur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p-&gt;result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ints to string: result or error mess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should display result or message for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Do Scripts Come From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tandard input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d from script file (see tcl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with X events, wait for events, invoke associated scripts (see tkMain.c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Last of four talks in all-day Tcl/Tk tutorial. Covers the C interfaces to Tcl.</dc:description>
  <dc:language>en-US</dc:language>
  <cp:lastModifiedBy>Sun Microsystems</cp:lastModifiedBy>
  <cp:revision>0</cp:revision>
  <dc:subject/>
  <dc:title>Writing Tcl-Based Applications In C</dc:title>
</cp:coreProperties>
</file>