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29.wmf" ContentType="image/x-wmf"/>
  <Override PartName="/ppt/media/image5.wmf" ContentType="image/x-wmf"/>
  <Override PartName="/ppt/media/image35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media/image16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I: Tk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58E475BB-194E-437D-9CD2-C92541C85F68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wmf"/><Relationship Id="rId3" Type="http://schemas.openxmlformats.org/officeDocument/2006/relationships/image" Target="../media/image25.wmf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295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uilding User Interfaces With</a:t>
            </a:r>
            <a:br>
              <a:rPr sz="3600"/>
            </a:b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but not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slave placed individually relative to its mas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85800" y="2895480"/>
            <a:ext cx="3543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0 -y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685800" y="472428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x 1.0c -rely 0.5 -anchor 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035760" y="225576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88" name="" descr=""/>
          <p:cNvPicPr/>
          <p:nvPr/>
        </p:nvPicPr>
        <p:blipFill>
          <a:blip r:embed="rId2"/>
          <a:stretch/>
        </p:blipFill>
        <p:spPr>
          <a:xfrm>
            <a:off x="6035760" y="416088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lacer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762120" y="1981080"/>
            <a:ext cx="4800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x 0.5 -rely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 2c -anchor cen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762120" y="4114800"/>
            <a:ext cx="4495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lace .x -relheight 0.5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width 0.5 -relx 0 -rely 0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5807160" y="1494000"/>
            <a:ext cx="2384280" cy="1711440"/>
          </a:xfrm>
          <a:prstGeom prst="rect">
            <a:avLst/>
          </a:prstGeom>
          <a:ln w="0">
            <a:noFill/>
          </a:ln>
        </p:spPr>
      </p:pic>
      <p:pic>
        <p:nvPicPr>
          <p:cNvPr id="193" name="" descr=""/>
          <p:cNvPicPr/>
          <p:nvPr/>
        </p:nvPicPr>
        <p:blipFill>
          <a:blip r:embed="rId2"/>
          <a:stretch/>
        </p:blipFill>
        <p:spPr>
          <a:xfrm>
            <a:off x="5807160" y="3627360"/>
            <a:ext cx="2384280" cy="171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powerful than the plac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s groups of slaves together (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acking lis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cks slaves around edges of master's cav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each slave, i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 txBox="1"/>
          <p:nvPr/>
        </p:nvSpPr>
        <p:spPr>
          <a:xfrm>
            <a:off x="533520" y="376380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Pick side of cav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533520" y="5013360"/>
            <a:ext cx="2286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lice off parcel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lav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724280" y="5013360"/>
            <a:ext cx="2438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tion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4724280" y="3657600"/>
            <a:ext cx="28954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7280" indent="-287280">
              <a:lnSpc>
                <a:spcPct val="90000"/>
              </a:lnSpc>
              <a:spcBef>
                <a:spcPts val="1199"/>
              </a:spcBef>
              <a:tabLst>
                <a:tab algn="l" pos="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tionally grow slav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fill parc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343400" y="2819520"/>
            <a:ext cx="228600" cy="3808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2971800" y="3429000"/>
            <a:ext cx="1371600" cy="1067040"/>
            <a:chOff x="2971800" y="3429000"/>
            <a:chExt cx="1371600" cy="1067040"/>
          </a:xfrm>
        </p:grpSpPr>
        <p:sp>
          <p:nvSpPr>
            <p:cNvPr id="202" name=""/>
            <p:cNvSpPr/>
            <p:nvPr/>
          </p:nvSpPr>
          <p:spPr>
            <a:xfrm>
              <a:off x="2971800" y="34290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124080" y="3733920"/>
              <a:ext cx="91440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733920" y="3962520"/>
              <a:ext cx="305280" cy="305280"/>
            </a:xfrm>
            <a:custGeom>
              <a:avLst/>
              <a:gdLst/>
              <a:ahLst/>
              <a:rect l="0" t="0" r="r" b="b"/>
              <a:pathLst>
                <a:path w="848" h="848">
                  <a:moveTo>
                    <a:pt x="0" y="282"/>
                  </a:moveTo>
                  <a:lnTo>
                    <a:pt x="0" y="564"/>
                  </a:lnTo>
                  <a:lnTo>
                    <a:pt x="593" y="564"/>
                  </a:lnTo>
                  <a:lnTo>
                    <a:pt x="593" y="848"/>
                  </a:lnTo>
                  <a:lnTo>
                    <a:pt x="848" y="424"/>
                  </a:lnTo>
                  <a:lnTo>
                    <a:pt x="593" y="0"/>
                  </a:lnTo>
                  <a:lnTo>
                    <a:pt x="593" y="282"/>
                  </a:lnTo>
                  <a:lnTo>
                    <a:pt x="0" y="282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2971800" y="4800600"/>
            <a:ext cx="1371600" cy="1067040"/>
            <a:chOff x="2971800" y="4800600"/>
            <a:chExt cx="1371600" cy="1067040"/>
          </a:xfrm>
        </p:grpSpPr>
        <p:grpSp>
          <p:nvGrpSpPr>
            <p:cNvPr id="206" name=""/>
            <p:cNvGrpSpPr/>
            <p:nvPr/>
          </p:nvGrpSpPr>
          <p:grpSpPr>
            <a:xfrm>
              <a:off x="2971800" y="4800600"/>
              <a:ext cx="1371600" cy="1067040"/>
              <a:chOff x="2971800" y="4800600"/>
              <a:chExt cx="1371600" cy="1067040"/>
            </a:xfrm>
          </p:grpSpPr>
          <p:sp>
            <p:nvSpPr>
              <p:cNvPr id="207" name=""/>
              <p:cNvSpPr/>
              <p:nvPr/>
            </p:nvSpPr>
            <p:spPr>
              <a:xfrm>
                <a:off x="2971800" y="4800600"/>
                <a:ext cx="1371600" cy="1066680"/>
              </a:xfrm>
              <a:prstGeom prst="rect">
                <a:avLst/>
              </a:prstGeom>
              <a:solidFill>
                <a:srgbClr val="fcfeb9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3124080" y="5105520"/>
                <a:ext cx="914400" cy="762120"/>
              </a:xfrm>
              <a:prstGeom prst="rect">
                <a:avLst/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round/>
              </a:ln>
            </p:spPr>
            <p:txBody>
              <a:bodyPr lIns="96120" rIns="96120" tIns="51120" bIns="51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9" name=""/>
            <p:cNvSpPr/>
            <p:nvPr/>
          </p:nvSpPr>
          <p:spPr>
            <a:xfrm>
              <a:off x="3657600" y="5105520"/>
              <a:ext cx="380880" cy="762120"/>
            </a:xfrm>
            <a:prstGeom prst="rect">
              <a:avLst/>
            </a:prstGeom>
            <a:solidFill>
              <a:srgbClr val="a2c1fe"/>
            </a:soli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24080" y="5105520"/>
              <a:ext cx="914400" cy="762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7772400" y="3581280"/>
            <a:ext cx="228600" cy="76212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7315200" y="4800600"/>
            <a:ext cx="1371600" cy="1067040"/>
            <a:chOff x="7315200" y="4800600"/>
            <a:chExt cx="1371600" cy="1067040"/>
          </a:xfrm>
        </p:grpSpPr>
        <p:sp>
          <p:nvSpPr>
            <p:cNvPr id="213" name=""/>
            <p:cNvSpPr/>
            <p:nvPr/>
          </p:nvSpPr>
          <p:spPr>
            <a:xfrm>
              <a:off x="7315200" y="4800600"/>
              <a:ext cx="1371600" cy="1066680"/>
            </a:xfrm>
            <a:prstGeom prst="rect">
              <a:avLst/>
            </a:prstGeom>
            <a:solidFill>
              <a:srgbClr val="fcfeb9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467480" y="5105520"/>
              <a:ext cx="533520" cy="76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153280" y="5105520"/>
              <a:ext cx="228600" cy="762120"/>
            </a:xfrm>
            <a:prstGeom prst="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" descr=""/>
          <p:cNvPicPr/>
          <p:nvPr/>
        </p:nvPicPr>
        <p:blipFill>
          <a:blip r:embed="rId1"/>
          <a:stretch/>
        </p:blipFill>
        <p:spPr>
          <a:xfrm>
            <a:off x="6240600" y="1898640"/>
            <a:ext cx="1812960" cy="58428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6246720" y="3346560"/>
            <a:ext cx="2403360" cy="58428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3"/>
          <a:stretch/>
        </p:blipFill>
        <p:spPr>
          <a:xfrm>
            <a:off x="6227640" y="44798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Choosing Sid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457200" y="1600200"/>
            <a:ext cx="6248520" cy="1190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ok -text OK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cancel -text Cancel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p -text Hel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3457440"/>
            <a:ext cx="6324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cancel configure -text "Cancel Command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4908600"/>
            <a:ext cx="51814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6116760" y="178128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2"/>
          <a:stretch/>
        </p:blipFill>
        <p:spPr>
          <a:xfrm>
            <a:off x="6116760" y="3228840"/>
            <a:ext cx="2212920" cy="66024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3"/>
          <a:stretch/>
        </p:blipFill>
        <p:spPr>
          <a:xfrm>
            <a:off x="5916600" y="4643280"/>
            <a:ext cx="2612880" cy="73656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Pad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28600" y="1773360"/>
            <a:ext cx="50292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228600" y="3220920"/>
            <a:ext cx="5105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28600" y="4689360"/>
            <a:ext cx="53341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padx 2m -pady 1m -ipadx 2m -ipady 1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6456240" y="2193840"/>
            <a:ext cx="1374840" cy="1212840"/>
          </a:xfrm>
          <a:prstGeom prst="rect">
            <a:avLst/>
          </a:prstGeom>
          <a:ln w="0">
            <a:noFill/>
          </a:ln>
        </p:spPr>
      </p:pic>
      <p:pic>
        <p:nvPicPr>
          <p:cNvPr id="231" name="" descr=""/>
          <p:cNvPicPr/>
          <p:nvPr/>
        </p:nvPicPr>
        <p:blipFill>
          <a:blip r:embed="rId2"/>
          <a:stretch/>
        </p:blipFill>
        <p:spPr>
          <a:xfrm>
            <a:off x="6456240" y="3794040"/>
            <a:ext cx="1374840" cy="121284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533520" y="1447920"/>
            <a:ext cx="769608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etch widgets to fill parce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2590920"/>
            <a:ext cx="47242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533520" y="4191120"/>
            <a:ext cx="5943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6046920" y="1165320"/>
            <a:ext cx="1746360" cy="235584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6046920" y="360360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Filling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480" y="190512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09480" y="4267080"/>
            <a:ext cx="655308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menu -side top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x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scrollbar -side righ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fill y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5532480" y="491508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5532480" y="201924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3"/>
          <a:stretch/>
        </p:blipFill>
        <p:spPr>
          <a:xfrm>
            <a:off x="5532480" y="346716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parcel size to absorb extra space in mast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2319480"/>
            <a:ext cx="55627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533520" y="4941720"/>
            <a:ext cx="5791320" cy="91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 -fill 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3629160"/>
            <a:ext cx="57913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-side left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p -side left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9" name="" descr=""/>
          <p:cNvPicPr/>
          <p:nvPr/>
        </p:nvPicPr>
        <p:blipFill>
          <a:blip r:embed="rId1"/>
          <a:stretch/>
        </p:blipFill>
        <p:spPr>
          <a:xfrm>
            <a:off x="5913360" y="1866960"/>
            <a:ext cx="2460600" cy="946080"/>
          </a:xfrm>
          <a:prstGeom prst="rect">
            <a:avLst/>
          </a:prstGeom>
          <a:ln w="0">
            <a:noFill/>
          </a:ln>
        </p:spPr>
      </p:pic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5913360" y="3848040"/>
            <a:ext cx="2460600" cy="94608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Packer: Expansion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09480" y="202896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609480" y="4021200"/>
            <a:ext cx="6858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ok .cancel .help -side lef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-expand 1 -fill bo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Hierarchical Pack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33520" y="1295280"/>
            <a:ext cx="8153280" cy="60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7760" indent="-34776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additional frames to create more complex arrange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09480" y="1828800"/>
            <a:ext cx="7772400" cy="406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lef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left -side lef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rame .righ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right -side right -padx 3m -pady 3m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size {8 10 12 18 24} {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adiobutton .pts$size -variable pts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value $size -text "$size points"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pts8 .pts10 .pts12 .pts18 .pts24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left -side top -anchor w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bold -text Bold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bold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italic -text Italic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italic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checkbutton .underline -text 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variable underlin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bold .italic .underline \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-in .right -side top -anchor 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6237360" y="3032280"/>
            <a:ext cx="2117880" cy="16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ic structures: windows, widgets, 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widgets: class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ment: the placer and the pack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ther commands: send, focus, selection, window manager, grab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exampl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showVar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mkDialog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nec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w to make widgets work together with application, other widgets? 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actions are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command ex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use Tcl commands to communicate with each oth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s -command ".text yview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2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uses widget commands to communicate with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352680" y="293364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3962520" y="2903400"/>
            <a:ext cx="19051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1066680" y="289548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4686120"/>
            <a:ext cx="457560" cy="305280"/>
          </a:xfrm>
          <a:custGeom>
            <a:avLst/>
            <a:gdLst/>
            <a:ahLst/>
            <a:rect l="0" t="0" r="r" b="b"/>
            <a:pathLst>
              <a:path w="1271" h="848">
                <a:moveTo>
                  <a:pt x="0" y="282"/>
                </a:moveTo>
                <a:lnTo>
                  <a:pt x="0" y="564"/>
                </a:lnTo>
                <a:lnTo>
                  <a:pt x="890" y="564"/>
                </a:lnTo>
                <a:lnTo>
                  <a:pt x="890" y="848"/>
                </a:lnTo>
                <a:lnTo>
                  <a:pt x="1271" y="424"/>
                </a:lnTo>
                <a:lnTo>
                  <a:pt x="890" y="0"/>
                </a:lnTo>
                <a:lnTo>
                  <a:pt x="890" y="282"/>
                </a:lnTo>
                <a:lnTo>
                  <a:pt x="0" y="282"/>
                </a:lnTo>
                <a:close/>
              </a:path>
            </a:pathLst>
          </a:cu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962520" y="4656240"/>
            <a:ext cx="37339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.text yview scroll </a:t>
            </a:r>
            <a:r>
              <a:rPr b="1" lang="en-US" sz="1800" spc="-1" strike="noStrike">
                <a:solidFill>
                  <a:srgbClr val="97000a"/>
                </a:solidFill>
                <a:latin typeface="Courier New"/>
                <a:ea typeface="Courier New"/>
              </a:rPr>
              <a:t>1 u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066680" y="4648320"/>
            <a:ext cx="1981080" cy="38088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lick on arr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cl scripts with X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b &lt;Control-h&gt; {backspace .t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to select one or more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me of 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ll windows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bitrary string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o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1447920" y="25909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2971800" y="2590920"/>
            <a:ext cx="1066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5562720" y="2590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220968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5053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60199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pecifying Ev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ifying ev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Double-Control-ButtonPress-1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7200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3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&lt;KeyPress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676520" y="2819520"/>
            <a:ext cx="1523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odifi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4495680" y="2819520"/>
            <a:ext cx="10666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vent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638680" y="2819520"/>
            <a:ext cx="13716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or Keysy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 flipV="1">
            <a:off x="502920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6324480" y="2286000"/>
            <a:ext cx="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5248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1483" y="1483"/>
                </a:moveTo>
                <a:lnTo>
                  <a:pt x="1483" y="1059"/>
                </a:ln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590920" y="2286000"/>
            <a:ext cx="533880" cy="533880"/>
          </a:xfrm>
          <a:custGeom>
            <a:avLst/>
            <a:gdLst/>
            <a:ahLst/>
            <a:rect l="0" t="0" r="r" b="b"/>
            <a:pathLst>
              <a:path fill="none" w="1483" h="1483">
                <a:moveTo>
                  <a:pt x="0" y="1483"/>
                </a:moveTo>
                <a:lnTo>
                  <a:pt x="0" y="1059"/>
                </a:lnTo>
                <a:lnTo>
                  <a:pt x="1483" y="1059"/>
                </a:lnTo>
                <a:lnTo>
                  <a:pt x="1483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s: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% substitutions in binding scrip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ordinates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nd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aracter from event: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%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y mor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c &lt;B1-Motion&gt; {move %x %y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&lt;KeyPress&gt; {insert %A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Help&gt; {help %W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inding Or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hat if multiple bindings match an ev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t a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all &lt;KeyPress&gt;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binding triggers per tag: most specifi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ault order of tags: widget, class, toplevel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al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change tag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indtag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tags .b {MyButton .b foo all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break</a:t>
            </a: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skip later ta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te: these rules apply only to Tk 4.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Bind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 and canvas widgets support bindings intern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tags with text or graphic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tag add foo 1.0 2.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create rect 1c 1c 2c 2c -tags f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e bindings with tags: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t bind foo &lt;1&gt; {...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.c bind foo &lt;Enter&gt; {...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ings always execute at global leve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binding created in procedure, procedure's local variables aren't available at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ften want binding script to use some information from binding-time, some from event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list commands to generate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procedures to separate event-time information from bind-time inform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{set y [expr $a + $b]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407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"set y [expr $a + $b]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ety a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 y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y [expr $a + $b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ind .x &lt;1&gt; [list sety $a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1219320" y="3733920"/>
            <a:ext cx="29718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bind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6629400" y="373392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se event-time va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1911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791320" y="358128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2329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76320" y="373392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ro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flipV="1">
            <a:off x="990720" y="365760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990720" y="3962520"/>
            <a:ext cx="38088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76320" y="5029200"/>
            <a:ext cx="914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i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914400" y="4572000"/>
            <a:ext cx="153000" cy="1372320"/>
            <a:chOff x="914400" y="4572000"/>
            <a:chExt cx="153000" cy="1372320"/>
          </a:xfrm>
        </p:grpSpPr>
        <p:sp>
          <p:nvSpPr>
            <p:cNvPr id="300" name=""/>
            <p:cNvSpPr/>
            <p:nvPr/>
          </p:nvSpPr>
          <p:spPr>
            <a:xfrm>
              <a:off x="990720" y="45720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213" y="0"/>
                  </a:moveTo>
                  <a:lnTo>
                    <a:pt x="213" y="0"/>
                  </a:lnTo>
                  <a:cubicBezTo>
                    <a:pt x="176" y="0"/>
                    <a:pt x="139" y="15"/>
                    <a:pt x="106" y="43"/>
                  </a:cubicBezTo>
                  <a:cubicBezTo>
                    <a:pt x="74" y="71"/>
                    <a:pt x="47" y="111"/>
                    <a:pt x="29" y="160"/>
                  </a:cubicBezTo>
                  <a:cubicBezTo>
                    <a:pt x="10" y="208"/>
                    <a:pt x="0" y="263"/>
                    <a:pt x="0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990720" y="582948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914400" y="525780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0"/>
                  </a:moveTo>
                  <a:lnTo>
                    <a:pt x="0" y="0"/>
                  </a:lnTo>
                  <a:cubicBezTo>
                    <a:pt x="0" y="56"/>
                    <a:pt x="10" y="111"/>
                    <a:pt x="29" y="160"/>
                  </a:cubicBezTo>
                  <a:cubicBezTo>
                    <a:pt x="47" y="208"/>
                    <a:pt x="74" y="248"/>
                    <a:pt x="107" y="276"/>
                  </a:cubicBezTo>
                  <a:cubicBezTo>
                    <a:pt x="139" y="304"/>
                    <a:pt x="176" y="319"/>
                    <a:pt x="213" y="319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990720" y="53722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990720" y="4686480"/>
              <a:ext cx="0" cy="45720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14400" y="5143320"/>
              <a:ext cx="76680" cy="114840"/>
            </a:xfrm>
            <a:custGeom>
              <a:avLst/>
              <a:gdLst/>
              <a:ahLst/>
              <a:rect l="0" t="0" r="r" b="b"/>
              <a:pathLst>
                <a:path fill="none" w="213" h="319">
                  <a:moveTo>
                    <a:pt x="0" y="319"/>
                  </a:moveTo>
                  <a:lnTo>
                    <a:pt x="0" y="319"/>
                  </a:lnTo>
                  <a:cubicBezTo>
                    <a:pt x="37" y="319"/>
                    <a:pt x="74" y="304"/>
                    <a:pt x="107" y="276"/>
                  </a:cubicBezTo>
                  <a:cubicBezTo>
                    <a:pt x="139" y="248"/>
                    <a:pt x="166" y="208"/>
                    <a:pt x="184" y="159"/>
                  </a:cubicBezTo>
                  <a:cubicBezTo>
                    <a:pt x="203" y="111"/>
                    <a:pt x="213" y="56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Tk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elec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lection get FILE_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suing commands to other Tk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tgdb "break tkEval.c:200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interp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wish tgdb pp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ndow inform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width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hildren .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info containing $x 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ccess To Other X Faciliti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board focu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cus .x.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 with window manag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title . "Editing main.c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geometry . 300x200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m iconify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leting window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destroy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rab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.x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rab release .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1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plays values of one or more values, updates automatical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2" name="" descr=""/>
          <p:cNvPicPr/>
          <p:nvPr/>
        </p:nvPicPr>
        <p:blipFill>
          <a:blip r:embed="rId1"/>
          <a:stretch/>
        </p:blipFill>
        <p:spPr>
          <a:xfrm>
            <a:off x="2705040" y="3298680"/>
            <a:ext cx="280368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ructure Of A Tk Applic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hierarch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proces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can have &gt; 1 application in a process)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dget: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 window with a particular look and fe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400480"/>
                <a:tab algn="l" pos="46861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lasses implemented by Tk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v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b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nu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ollb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ssag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eck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ntr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b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2000160"/>
                <a:tab algn="l" pos="42861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adiobutt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p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"Variable values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menu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button $w.menu.file -text File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menu $w.menu.file.m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enu.fil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menu $w.menu.file.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$w.menu.file.m add command -label Qui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command "destroy $w" -underline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3863880" y="5173560"/>
            <a:ext cx="1101600" cy="75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533520" y="1447920"/>
            <a:ext cx="81532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2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bot.title -width 20 -anchor center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text "Variable values:" -fon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Helvetica-Medium-r-normal--*-180-*-*-*-*-*-*-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.title -side top -fill 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8" name="" descr=""/>
          <p:cNvPicPr/>
          <p:nvPr/>
        </p:nvPicPr>
        <p:blipFill>
          <a:blip r:embed="rId1"/>
          <a:stretch/>
        </p:blipFill>
        <p:spPr>
          <a:xfrm>
            <a:off x="3162240" y="4670280"/>
            <a:ext cx="280368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showVars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533520" y="1295280"/>
            <a:ext cx="853452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howVars {w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i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frame $w.bot.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 -side top -anchor 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name -text "$i: 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ot.$i.value -textvariable $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name -side left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ot.$i.value -side lef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howVars .vars name age ssn ph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326280" y="4027320"/>
            <a:ext cx="2098800" cy="166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ample #2: </a:t>
            </a: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533520" y="1447920"/>
            <a:ext cx="8381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s dialog box, waits until button pressed, returns inde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mkdialog .d "File Modified" $msg warning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"Save File" "Discard Changes" "Return To Editor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905120" y="19051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 txBox="1"/>
          <p:nvPr/>
        </p:nvSpPr>
        <p:spPr>
          <a:xfrm>
            <a:off x="350532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it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5257800" y="1905120"/>
            <a:ext cx="91440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ess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5880" y="1905120"/>
            <a:ext cx="9907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itmap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0006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571500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62908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591240" y="2209680"/>
            <a:ext cx="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 flipH="1" flipV="1">
            <a:off x="2362320" y="3200400"/>
            <a:ext cx="16761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3962520" y="3505320"/>
            <a:ext cx="1447920" cy="33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16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utton Lab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4495680" y="3200400"/>
            <a:ext cx="76320" cy="3049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 flipV="1">
            <a:off x="5334120" y="3200400"/>
            <a:ext cx="144756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2639880" y="396540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oplevel $w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title $w $title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wm protocol $w WM_DELETE_WINDOW { }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top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top -side top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rame $w.bot -relief raised -bd 1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bot -side bottom -fill both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bel $w.msg -wraplength 3i -text $tex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justify left -fon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dobe-Times-Medium-R-Normal--*-180-*-*-*-*-*-*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pack $w.msg -in $w.top -side right \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-expand 1 -fill both -padx 3m -pady 3m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1800"/>
            </a:b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1"/>
          <a:stretch/>
        </p:blipFill>
        <p:spPr>
          <a:xfrm>
            <a:off x="3137040" y="4651200"/>
            <a:ext cx="298440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f {$bitmap != ""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label $w.bitmap -bitmap $bitmap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itmap -in $w.top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padx 3m -pady 3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" descr=""/>
          <p:cNvPicPr/>
          <p:nvPr/>
        </p:nvPicPr>
        <p:blipFill>
          <a:blip r:embed="rId1"/>
          <a:stretch/>
        </p:blipFill>
        <p:spPr>
          <a:xfrm>
            <a:off x="2913120" y="4194000"/>
            <a:ext cx="3289320" cy="13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i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reach but $args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button $w.button$i -text $bu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command "set button $i"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pack $w.button$i -in $w.bot -side left \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    -expand 1 -padx 3m -pady 2m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i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2792520" y="4118040"/>
            <a:ext cx="3984480" cy="17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Courier New"/>
                <a:ea typeface="Courier New"/>
              </a:rPr>
              <a:t>mkDialog</a:t>
            </a: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mkDialog {w title text bitmap args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lobal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...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grab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oldFocus [focus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tkwait variable 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destroy $w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focus $oldFocus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butto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interfaces with Tk is eas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th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nect to application,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wer from single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specifying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invoke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widgets to communicate with each o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ommunicating with outside wor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changing anything dynamic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5951520" y="1511280"/>
            <a:ext cx="1631880" cy="196524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5951520" y="3803760"/>
            <a:ext cx="1631880" cy="2700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8037360" y="2035080"/>
            <a:ext cx="203040" cy="16794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4"/>
          <a:stretch/>
        </p:blipFill>
        <p:spPr>
          <a:xfrm>
            <a:off x="4078440" y="1989000"/>
            <a:ext cx="1413000" cy="177480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5"/>
          <a:stretch/>
        </p:blipFill>
        <p:spPr>
          <a:xfrm>
            <a:off x="5396040" y="4203720"/>
            <a:ext cx="307800" cy="24120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6"/>
          <a:stretch/>
        </p:blipFill>
        <p:spPr>
          <a:xfrm>
            <a:off x="7881840" y="4203720"/>
            <a:ext cx="365040" cy="2412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Widget Hierarc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56386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467480" y="3962520"/>
            <a:ext cx="45720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781680" y="1676520"/>
            <a:ext cx="0" cy="22096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4674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5410080" y="2666880"/>
            <a:ext cx="685800" cy="2286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71600" y="36576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808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590920" y="449568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209680" y="541008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600200" y="44956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28600" y="44956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12193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76920"/>
            <a:ext cx="914400" cy="6094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057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057400" y="40384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 flipH="1">
            <a:off x="914400" y="403848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7"/>
          <a:stretch/>
        </p:blipFill>
        <p:spPr>
          <a:xfrm>
            <a:off x="1170000" y="1317600"/>
            <a:ext cx="1746360" cy="235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855800" y="1165320"/>
            <a:ext cx="1746360" cy="235584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ypes Of Window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666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fi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327672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sc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2895480" y="5105520"/>
            <a:ext cx="16765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.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2286000" y="434340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me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838080" y="434340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list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19051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819520" y="4724280"/>
            <a:ext cx="91440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743200" y="3886200"/>
            <a:ext cx="11430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743200" y="388620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>
            <a:off x="1533600" y="3886200"/>
            <a:ext cx="120960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6858000" y="510552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n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5791320" y="541008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y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4800600" y="5105520"/>
            <a:ext cx="13716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.ms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5867280" y="434340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dl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43200" y="3886200"/>
            <a:ext cx="3733920" cy="5335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H="1">
            <a:off x="5486400" y="4724280"/>
            <a:ext cx="99072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477120" y="4724280"/>
            <a:ext cx="990360" cy="4572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477120" y="4724280"/>
            <a:ext cx="0" cy="76212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09480" y="3352680"/>
            <a:ext cx="11430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in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7391520" y="3505320"/>
            <a:ext cx="12952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op-level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191120" y="32767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ternal wind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2286000" y="350532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 flipH="1">
            <a:off x="6629400" y="3886200"/>
            <a:ext cx="1066680" cy="5335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3657600"/>
            <a:ext cx="1143000" cy="7632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25200" bIns="25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4191120" y="3886200"/>
            <a:ext cx="685800" cy="4572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114800" y="3962520"/>
            <a:ext cx="91440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181480" y="3962520"/>
            <a:ext cx="76320" cy="11430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3886200"/>
            <a:ext cx="1066680" cy="1523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5494320" y="1528920"/>
            <a:ext cx="1774800" cy="14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Widge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ch widget has a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button, listbox, scrollba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each class, used to create insta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 -text Quit -command ex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 -orient horizon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143000" y="4495680"/>
            <a:ext cx="13716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lass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2133720" y="5029200"/>
            <a:ext cx="16765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indow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4267080" y="4495680"/>
            <a:ext cx="2438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nfiguration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18288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2971800" y="4114800"/>
            <a:ext cx="0" cy="91440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5486400" y="41148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52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5146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828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8954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004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6668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718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541008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4380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52680" y="388620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213"/>
                </a:moveTo>
                <a:lnTo>
                  <a:pt x="213" y="213"/>
                </a:lnTo>
                <a:lnTo>
                  <a:pt x="213" y="213"/>
                </a:lnTo>
                <a:cubicBezTo>
                  <a:pt x="213" y="176"/>
                  <a:pt x="203" y="139"/>
                  <a:pt x="184" y="106"/>
                </a:cubicBezTo>
                <a:cubicBezTo>
                  <a:pt x="166" y="74"/>
                  <a:pt x="139" y="47"/>
                  <a:pt x="106" y="29"/>
                </a:cubicBezTo>
                <a:cubicBezTo>
                  <a:pt x="74" y="10"/>
                  <a:pt x="37" y="0"/>
                  <a:pt x="0" y="0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86400" y="3962520"/>
            <a:ext cx="76680" cy="76680"/>
          </a:xfrm>
          <a:custGeom>
            <a:avLst/>
            <a:gdLst/>
            <a:ahLst/>
            <a:rect l="0" t="0" r="r" b="b"/>
            <a:pathLst>
              <a:path fill="none" w="213" h="213">
                <a:moveTo>
                  <a:pt x="213" y="0"/>
                </a:moveTo>
                <a:lnTo>
                  <a:pt x="213" y="0"/>
                </a:lnTo>
                <a:cubicBezTo>
                  <a:pt x="176" y="0"/>
                  <a:pt x="139" y="10"/>
                  <a:pt x="106" y="29"/>
                </a:cubicBezTo>
                <a:cubicBezTo>
                  <a:pt x="74" y="47"/>
                  <a:pt x="47" y="74"/>
                  <a:pt x="29" y="107"/>
                </a:cubicBezTo>
                <a:cubicBezTo>
                  <a:pt x="10" y="139"/>
                  <a:pt x="0" y="176"/>
                  <a:pt x="0" y="213"/>
                </a:cubicBezTo>
              </a:path>
            </a:pathLst>
          </a:custGeom>
          <a:ln w="12600">
            <a:solidFill>
              <a:srgbClr val="97000a"/>
            </a:solidFill>
            <a:round/>
          </a:ln>
        </p:spPr>
        <p:txBody>
          <a:bodyPr lIns="96120" rIns="96120" tIns="25560" bIns="25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300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905120" y="39625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4320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048120" y="3962520"/>
            <a:ext cx="1522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56272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429000" y="3962520"/>
            <a:ext cx="1981080" cy="0"/>
          </a:xfrm>
          <a:prstGeom prst="line">
            <a:avLst/>
          </a:prstGeom>
          <a:ln w="12600">
            <a:solidFill>
              <a:srgbClr val="97000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figuration Op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1219320"/>
            <a:ext cx="82296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d by class.  For butt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76360" indent="-119160">
              <a:lnSpc>
                <a:spcPct val="100000"/>
              </a:lnSpc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disabled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justif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underline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ctive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n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x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id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anch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fore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pady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wraplength 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eight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relief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itmap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backgrou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state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borderwidth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col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akefocus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ommand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highlightthickness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</a:t>
            </a:r>
            <a:br>
              <a:rPr sz="1600"/>
            </a:b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cursor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image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1600" spc="-1" strike="noStrike">
                <a:solidFill>
                  <a:srgbClr val="009688"/>
                </a:solidFill>
                <a:latin typeface="Courier New"/>
                <a:ea typeface="Courier New"/>
              </a:rPr>
              <a:t>-textvari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specified in command, taken from option databa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ed from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ESOURCE_MANAGE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perty or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.Xdefaul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6360" indent="-11916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  <a:tabLst>
                <a:tab algn="l" pos="2286000"/>
                <a:tab algn="l" pos="4851360"/>
                <a:tab algn="l" pos="6053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be set, queried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op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519280"/>
                <a:tab algn="l" pos="5084640"/>
                <a:tab algn="l" pos="6286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not in option database, default provided by clas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dget Command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for each widget, named after widge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to reconfigure, manipulate widge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a.b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configure -relief sunken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a.b flas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5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crollbar .x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set 0.2 0.7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x 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 command is deleted when widget is destroy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inciple: all state should be readable, modifiable, any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Geometry Manag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447920"/>
            <a:ext cx="3809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control their own positions and sizes: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manager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dgets don't even appear on the screen until managed by a geometry manag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44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 manager = algorithm for arranging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lave windows 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lative to a </a:t>
            </a:r>
            <a:r>
              <a:rPr b="1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master window</a:t>
            </a: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943600" y="3505320"/>
            <a:ext cx="1523880" cy="762120"/>
          </a:xfrm>
          <a:prstGeom prst="rect">
            <a:avLst/>
          </a:prstGeom>
          <a:solidFill>
            <a:srgbClr val="fcfeb9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eomet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495680" y="228600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quested size from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5410080" y="1523880"/>
            <a:ext cx="25909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ameters from application desig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7162920" y="2286000"/>
            <a:ext cx="167652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eometry of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4419720" y="4876920"/>
            <a:ext cx="198108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ize and location of sla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7086600" y="4876920"/>
            <a:ext cx="1828800" cy="641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quested size for mas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05720" y="2133720"/>
            <a:ext cx="0" cy="129528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6432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0"/>
                </a:moveTo>
                <a:lnTo>
                  <a:pt x="1214" y="1059"/>
                </a:lnTo>
                <a:lnTo>
                  <a:pt x="0" y="1694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5429160" y="28954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0"/>
                </a:moveTo>
                <a:lnTo>
                  <a:pt x="0" y="1059"/>
                </a:lnTo>
                <a:lnTo>
                  <a:pt x="1214" y="1694"/>
                </a:lnTo>
              </a:path>
            </a:pathLst>
          </a:custGeom>
          <a:ln w="12600">
            <a:solidFill>
              <a:srgbClr val="081d75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42916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0" y="1694"/>
                </a:moveTo>
                <a:lnTo>
                  <a:pt x="0" y="635"/>
                </a:lnTo>
                <a:lnTo>
                  <a:pt x="1214" y="0"/>
                </a:lnTo>
              </a:path>
            </a:pathLst>
          </a:custGeom>
          <a:ln w="12600">
            <a:solidFill>
              <a:srgbClr val="081d75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561440" y="4267080"/>
            <a:ext cx="437040" cy="609840"/>
          </a:xfrm>
          <a:custGeom>
            <a:avLst/>
            <a:gdLst/>
            <a:ahLst/>
            <a:rect l="0" t="0" r="r" b="b"/>
            <a:pathLst>
              <a:path fill="none" w="1214" h="1694">
                <a:moveTo>
                  <a:pt x="1214" y="1694"/>
                </a:moveTo>
                <a:lnTo>
                  <a:pt x="1214" y="635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head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Third of four talks in all-day Tcl/Tk tutorial.  Discusses Tk's Tcl commands.</dc:description>
  <dc:language>en-US</dc:language>
  <cp:lastModifiedBy>Sun Microsystems</cp:lastModifiedBy>
  <cp:revision>0</cp:revision>
  <dc:subject/>
  <dc:title>Building User Interfaces With Tcl And Tk</dc:title>
</cp:coreProperties>
</file>