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I: Tcl Script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99F156B7-1C4E-4AA7-BBA2-6F9C3016D26B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Introduction To Tcl Script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is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Zero or more elements separated by white sp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d green b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aces and backslashes for grou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 b {c d e} 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ne\ word two 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-related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c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lengt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ear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nser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ang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9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appen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is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lre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12840"/>
                <a:tab algn="l" pos="3771720"/>
                <a:tab algn="l" pos="4287960"/>
                <a:tab algn="l" pos="57196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index {a b {c d e} f} 2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c d 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4480" indent="-287280">
              <a:lnSpc>
                <a:spcPct val="100000"/>
              </a:lnSpc>
              <a:tabLst>
                <a:tab algn="l" pos="1711440"/>
                <a:tab algn="l" pos="3370320"/>
                <a:tab algn="l" pos="3886200"/>
                <a:tab algn="l" pos="53182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lsort {red green blue}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blue green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 Struct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1447920"/>
            <a:ext cx="76960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appea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 commands that take Tcl scripts as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: list revers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"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i [expr [llength $a] - 1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 {$i &gt;= 0}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lappend b [lindex $a $i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incr i -1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171520"/>
                <a:tab algn="l" pos="3602160"/>
                <a:tab algn="l" pos="520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wit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bre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771560"/>
                <a:tab algn="l" pos="3201840"/>
                <a:tab algn="l" pos="480204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whil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ontin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pro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 defines a proced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b1 x {expr $x-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72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 behave just like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b1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guments can have defa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decr {x {y 1}}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-$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90000"/>
              </a:lnSpc>
              <a:tabLst>
                <a:tab algn="l" pos="14335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8334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oping: local and global vari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80880" y="2286000"/>
            <a:ext cx="11430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1676520" y="2666880"/>
            <a:ext cx="25909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ist of argument nam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286000"/>
            <a:ext cx="838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bo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523880" y="2133720"/>
            <a:ext cx="838440" cy="381240"/>
          </a:xfrm>
          <a:custGeom>
            <a:avLst/>
            <a:gdLst/>
            <a:ahLst/>
            <a:rect l="0" t="0" r="r" b="b"/>
            <a:pathLst>
              <a:path fill="none" w="2329" h="1059">
                <a:moveTo>
                  <a:pt x="0" y="1059"/>
                </a:moveTo>
                <a:lnTo>
                  <a:pt x="2329" y="1059"/>
                </a:lnTo>
                <a:lnTo>
                  <a:pt x="2329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67080" y="2133720"/>
            <a:ext cx="914760" cy="381240"/>
          </a:xfrm>
          <a:custGeom>
            <a:avLst/>
            <a:gdLst/>
            <a:ahLst/>
            <a:rect l="0" t="0" r="r" b="b"/>
            <a:pathLst>
              <a:path fill="none" w="2541" h="1059">
                <a:moveTo>
                  <a:pt x="2541" y="1059"/>
                </a:moveTo>
                <a:lnTo>
                  <a:pt x="0" y="1059"/>
                </a:lnTo>
                <a:lnTo>
                  <a:pt x="0" y="0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2971800" y="2133720"/>
            <a:ext cx="0" cy="6094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roced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31449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-length argument lis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sum 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s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$args {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    incr s $i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}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return $s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tabLst>
                <a:tab algn="l" pos="30304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 1 2 3 4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  <a:tabLst>
                <a:tab algn="l" pos="30304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um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rr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rrors normally abort commands in progress, application displays error mess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n 0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{1 2 3 4 5} {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 set n [expr {$n + i*i}]</a:t>
            </a:r>
            <a:br>
              <a:rPr sz="2000"/>
            </a:b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Inf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vides stack trac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9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errorInfo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$n + i*i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while executing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expr {$n + i*i}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invoked from within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"set n [expr {$n + i*i}]..."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("foreach" body line 2)</a:t>
            </a:r>
            <a:br>
              <a:rPr sz="2000"/>
            </a:br>
            <a:r>
              <a:rPr b="1" lang="en-US" sz="2000" spc="-1" strike="noStrike">
                <a:solidFill>
                  <a:srgbClr val="97000a"/>
                </a:solidFill>
                <a:latin typeface="Courier New"/>
                <a:ea typeface="Courier New"/>
              </a:rPr>
              <a:t>   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vanced Error Handl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intercept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atch {expr {2 +}}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sg</a:t>
            </a:r>
            <a:br>
              <a:rPr sz="18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syntax error in expression "2 +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generate erro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rror "bad argument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variabl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orCod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olds machine-readable information about errors (e.g. UNIX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rrno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valu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ring manipulatio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exp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lit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gsu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ca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jo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I/O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open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e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ek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lush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los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ad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el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cd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ourc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of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w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486080"/>
                <a:tab algn="l" pos="28576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processes wit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ec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1199"/>
              </a:spcBef>
              <a:tabLst>
                <a:tab algn="l" pos="1371600"/>
                <a:tab algn="l" pos="2743200"/>
                <a:tab algn="l" pos="41148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grep foo &lt;&lt; $input | w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sociative array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fred) 44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(2) [expr $x(fred) + 6]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array names 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fred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sc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level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upv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91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1773360"/>
                <a:tab algn="l" pos="37717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Tcl internal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  <a:tabLst>
                <a:tab algn="l" pos="1658880"/>
                <a:tab algn="l" pos="365760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fo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rename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tr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dditional Tcl Feature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toload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unknow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rocedure invoked when command doesn't ex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ads procedures on demand from libr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s search path of directo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ing soon (Tcl 7.5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ynamic loading of binaries: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oa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omman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curity: Safe-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ent-driven I/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cket suppor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Substitu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ep substitutions simple: use commands lik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orma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plex argum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va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another level of expans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*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 *.o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ec rm [glob *.o]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.o b.o: No such file or direc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exec rm [glob *.o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Language Overvie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wo parts to learning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600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Syntax and substitution ru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simple, but may be confusing at fir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n learn individually as need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structures are commands, not language synta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s And Lists: Quoting 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129528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sts parse cleanly as commands: each element become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create commands safely, use list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Reset -command {set x $initValue}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read when button invok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$initValue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New York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"set x {$initValue}"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fails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: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{{}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... -command [list set x $initValue]</a:t>
            </a:r>
            <a:br>
              <a:rPr sz="1800"/>
            </a:b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always works: if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Valu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 command is "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et x \{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"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 Syntax Summar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 = commands separated by newlines or semi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= words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$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variable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[]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causes command substitu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""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white space and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{}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all special charact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\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quotes next character, provides C-like substitu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3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#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for comments (must be at beginning of command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quence of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s separated by newlines, semi-col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command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e or mo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word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eparated by white sp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rst word i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 nam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s are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rgumen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turns </a:t>
            </a: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tring resul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ampl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; 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22</a:t>
            </a:r>
            <a:br>
              <a:rPr sz="2400"/>
            </a:b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3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ivision Of Responsibilit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85800" y="1379520"/>
            <a:ext cx="441972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905120" y="5638680"/>
            <a:ext cx="1981080" cy="228600"/>
          </a:xfrm>
          <a:prstGeom prst="round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476440" y="2895480"/>
            <a:ext cx="1295280" cy="1447920"/>
            <a:chOff x="2476440" y="2895480"/>
            <a:chExt cx="1295280" cy="1447920"/>
          </a:xfrm>
        </p:grpSpPr>
        <p:sp>
          <p:nvSpPr>
            <p:cNvPr id="89" name=""/>
            <p:cNvSpPr/>
            <p:nvPr/>
          </p:nvSpPr>
          <p:spPr>
            <a:xfrm>
              <a:off x="2476440" y="289548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200400"/>
              <a:ext cx="12952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2476440" y="4114800"/>
              <a:ext cx="7621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476440" y="3809880"/>
              <a:ext cx="83808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476440" y="3505320"/>
              <a:ext cx="304920" cy="228600"/>
            </a:xfrm>
            <a:prstGeom prst="roundRect">
              <a:avLst/>
            </a:prstGeom>
            <a:solidFill>
              <a:srgbClr val="009688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2743200" y="16765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171520" y="2057400"/>
            <a:ext cx="14479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743200" y="441972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743200" y="25146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4800600"/>
            <a:ext cx="3048120" cy="380880"/>
          </a:xfrm>
          <a:prstGeom prst="rect">
            <a:avLst/>
          </a:prstGeom>
          <a:solidFill>
            <a:srgbClr val="ffff84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305280" cy="305280"/>
          </a:xfrm>
          <a:custGeom>
            <a:avLst/>
            <a:gdLst/>
            <a:ahLst/>
            <a:rect l="0" t="0" r="r" b="b"/>
            <a:pathLst>
              <a:path w="848" h="848">
                <a:moveTo>
                  <a:pt x="282" y="0"/>
                </a:moveTo>
                <a:lnTo>
                  <a:pt x="564" y="0"/>
                </a:lnTo>
                <a:lnTo>
                  <a:pt x="564" y="593"/>
                </a:lnTo>
                <a:lnTo>
                  <a:pt x="848" y="593"/>
                </a:lnTo>
                <a:lnTo>
                  <a:pt x="424" y="848"/>
                </a:lnTo>
                <a:lnTo>
                  <a:pt x="0" y="593"/>
                </a:lnTo>
                <a:lnTo>
                  <a:pt x="282" y="593"/>
                </a:lnTo>
                <a:lnTo>
                  <a:pt x="282" y="0"/>
                </a:lnTo>
                <a:close/>
              </a:path>
            </a:pathLst>
          </a:custGeom>
          <a:solidFill>
            <a:srgbClr val="a2c1fe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257800" y="12636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962520" y="338940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Wo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038480" y="552276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610160" y="4648320"/>
            <a:ext cx="3772080" cy="68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s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duces string resul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610160" y="1752480"/>
            <a:ext cx="445788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hops commands into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s substitution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Does not interpret values of wor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rgum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533520" y="1219320"/>
            <a:ext cx="769608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ser assigns no meaning to arguments (quoting by default, evaluation is special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x = 4; y =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: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x 4; set y x+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 is "x+10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96984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fferent commands assign different meanings to their argumen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12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24/3.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eval "set a 122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b -text Hello -fg 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tabLst>
                <a:tab algn="l" pos="569880"/>
              </a:tabLst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tring length Abracada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Variable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533520" y="1447920"/>
            <a:ext cx="7696080" cy="48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$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var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 name is letters, digits, undersco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66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+$b+$b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+66+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.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66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690480"/>
                <a:tab algn="l" pos="422892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$b4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o such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mmand Substitu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ntax: [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ri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, substitute resul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y occur anywhere within a wor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8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[expr $b+2]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284040"/>
                <a:tab algn="l" pos="5491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b-3 is [expr $b-3]"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-3 is 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trolling Word 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533520" y="1523880"/>
            <a:ext cx="76960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ords break at white space and semi-colons, excep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uble-quotes prevent break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x is $x; y is $y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rly braces prevent breaks and 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{[expr $b*$c]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ckslashes quote special charact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word\ with\ \$\ and\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800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 don't change word structu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"two words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pres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533520" y="1295280"/>
            <a:ext cx="8305920" cy="471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(int and double), extra support for string oper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and, variable substitution occurs </a:t>
            </a:r>
            <a:r>
              <a:rPr b="1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i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d i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r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other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tabLst>
                <a:tab algn="l" pos="571680"/>
                <a:tab algn="l" pos="434808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Sample comman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Resul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5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($b*4) - 3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b &lt;= 2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a * cos(2*$b)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-5.0344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b * [fac 4]}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1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Bill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B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571680"/>
                <a:tab algn="l" pos="4348080"/>
              </a:tabLst>
            </a:pP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{$a &lt; "Anne"}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Second of four talks in all-day Tcl/Tk tutorial.  Discusses how to write scripts in Tcl;  ignores Tk and Tcl C interfaces.</dc:description>
  <dc:language>en-US</dc:language>
  <cp:lastModifiedBy>Sun Microsystems</cp:lastModifiedBy>
  <cp:revision>0</cp:revision>
  <dc:subject/>
  <dc:title>An Introduction To Tcl Scripting</dc:title>
</cp:coreProperties>
</file>