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: Ove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6314B706-1AEF-4FD3-9299-007DEC54860F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Overview of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mbedding Tcl In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3520" y="1447920"/>
            <a:ext cx="4343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generates scrip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s scripts, passes words to command procedur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extends built-in command set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 new object types in 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primitive operations as new Tcl comma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complex features with Tcl scrip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1055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341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7913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6201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3915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1629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9343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819520"/>
            <a:ext cx="91440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934320" y="198108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781680" y="266688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562720" y="312408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638680" y="3124080"/>
            <a:ext cx="0" cy="6098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15000" y="312408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791320" y="312408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867280" y="3124080"/>
            <a:ext cx="0" cy="3812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48640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410080" y="3124080"/>
            <a:ext cx="0" cy="114300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3412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943600" y="312408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943600" y="3429000"/>
            <a:ext cx="1752840" cy="838440"/>
          </a:xfrm>
          <a:custGeom>
            <a:avLst/>
            <a:gdLst/>
            <a:ahLst/>
            <a:rect l="0" t="0" r="r" b="b"/>
            <a:pathLst>
              <a:path fill="none" w="4869" h="2329">
                <a:moveTo>
                  <a:pt x="0" y="0"/>
                </a:moveTo>
                <a:lnTo>
                  <a:pt x="4869" y="0"/>
                </a:lnTo>
                <a:lnTo>
                  <a:pt x="4869" y="2329"/>
                </a:lnTo>
                <a:lnTo>
                  <a:pt x="4869" y="232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3505320"/>
            <a:ext cx="1600560" cy="762480"/>
          </a:xfrm>
          <a:custGeom>
            <a:avLst/>
            <a:gdLst/>
            <a:ahLst/>
            <a:rect l="0" t="0" r="r" b="b"/>
            <a:pathLst>
              <a:path fill="none" w="4446" h="2118">
                <a:moveTo>
                  <a:pt x="0" y="0"/>
                </a:moveTo>
                <a:lnTo>
                  <a:pt x="4446" y="0"/>
                </a:lnTo>
                <a:lnTo>
                  <a:pt x="4446" y="211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791320" y="3581280"/>
            <a:ext cx="1448280" cy="686160"/>
          </a:xfrm>
          <a:custGeom>
            <a:avLst/>
            <a:gdLst/>
            <a:ahLst/>
            <a:rect l="0" t="0" r="r" b="b"/>
            <a:pathLst>
              <a:path fill="none" w="4023" h="1906">
                <a:moveTo>
                  <a:pt x="0" y="0"/>
                </a:moveTo>
                <a:lnTo>
                  <a:pt x="4023" y="0"/>
                </a:lnTo>
                <a:lnTo>
                  <a:pt x="4023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715000" y="3657600"/>
            <a:ext cx="1295640" cy="609840"/>
          </a:xfrm>
          <a:custGeom>
            <a:avLst/>
            <a:gdLst/>
            <a:ahLst/>
            <a:rect l="0" t="0" r="r" b="b"/>
            <a:pathLst>
              <a:path fill="none" w="3599" h="1694">
                <a:moveTo>
                  <a:pt x="0" y="0"/>
                </a:moveTo>
                <a:lnTo>
                  <a:pt x="3599" y="0"/>
                </a:lnTo>
                <a:lnTo>
                  <a:pt x="3599" y="1694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638680" y="3733920"/>
            <a:ext cx="457560" cy="533880"/>
          </a:xfrm>
          <a:custGeom>
            <a:avLst/>
            <a:gdLst/>
            <a:ahLst/>
            <a:rect l="0" t="0" r="r" b="b"/>
            <a:pathLst>
              <a:path fill="none" w="1271" h="1483">
                <a:moveTo>
                  <a:pt x="0" y="0"/>
                </a:moveTo>
                <a:lnTo>
                  <a:pt x="1271" y="0"/>
                </a:lnTo>
                <a:lnTo>
                  <a:pt x="1271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562720" y="3809880"/>
            <a:ext cx="305280" cy="457560"/>
          </a:xfrm>
          <a:custGeom>
            <a:avLst/>
            <a:gdLst/>
            <a:ahLst/>
            <a:rect l="0" t="0" r="r" b="b"/>
            <a:pathLst>
              <a:path fill="none" w="848" h="1271">
                <a:moveTo>
                  <a:pt x="0" y="0"/>
                </a:moveTo>
                <a:lnTo>
                  <a:pt x="848" y="0"/>
                </a:lnTo>
                <a:lnTo>
                  <a:pt x="848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48640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0" y="0"/>
                </a:moveTo>
                <a:lnTo>
                  <a:pt x="424" y="0"/>
                </a:lnTo>
                <a:lnTo>
                  <a:pt x="424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18148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424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6095880" y="2971800"/>
            <a:ext cx="68580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915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38680" y="213372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772400" y="236232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553080" y="1905120"/>
            <a:ext cx="1676520" cy="32767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629400" y="441972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952880" y="1905120"/>
            <a:ext cx="1371600" cy="32767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952880" y="441972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95288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70572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457200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sions can be developed independent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work communication, database access, security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can include combinations of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098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0384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2670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4956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3244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958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8672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6386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809880" y="2438280"/>
            <a:ext cx="106668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638680" y="160020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5486400" y="228600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41972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49568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4832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72428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26708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343400" y="2743200"/>
            <a:ext cx="0" cy="99072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19112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8006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800600" y="3048120"/>
            <a:ext cx="1600560" cy="686160"/>
          </a:xfrm>
          <a:custGeom>
            <a:avLst/>
            <a:gdLst/>
            <a:ahLst/>
            <a:rect l="0" t="0" r="r" b="b"/>
            <a:pathLst>
              <a:path fill="none" w="4446" h="1906">
                <a:moveTo>
                  <a:pt x="0" y="0"/>
                </a:moveTo>
                <a:lnTo>
                  <a:pt x="4446" y="0"/>
                </a:lnTo>
                <a:lnTo>
                  <a:pt x="4446" y="1906"/>
                </a:lnTo>
                <a:lnTo>
                  <a:pt x="4446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312408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0" y="0"/>
                </a:moveTo>
                <a:lnTo>
                  <a:pt x="4023" y="0"/>
                </a:lnTo>
                <a:lnTo>
                  <a:pt x="4023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648320" y="3200400"/>
            <a:ext cx="1295640" cy="533880"/>
          </a:xfrm>
          <a:custGeom>
            <a:avLst/>
            <a:gdLst/>
            <a:ahLst/>
            <a:rect l="0" t="0" r="r" b="b"/>
            <a:pathLst>
              <a:path fill="none" w="3599" h="1483">
                <a:moveTo>
                  <a:pt x="0" y="0"/>
                </a:moveTo>
                <a:lnTo>
                  <a:pt x="3599" y="0"/>
                </a:lnTo>
                <a:lnTo>
                  <a:pt x="3599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0" y="0"/>
                </a:moveTo>
                <a:lnTo>
                  <a:pt x="3176" y="0"/>
                </a:lnTo>
                <a:lnTo>
                  <a:pt x="3176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495680" y="33544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0" y="0"/>
                </a:moveTo>
                <a:lnTo>
                  <a:pt x="848" y="0"/>
                </a:lnTo>
                <a:lnTo>
                  <a:pt x="848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41972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0" y="0"/>
                </a:moveTo>
                <a:lnTo>
                  <a:pt x="424" y="0"/>
                </a:lnTo>
                <a:lnTo>
                  <a:pt x="424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11480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424" y="0"/>
                </a:moveTo>
                <a:lnTo>
                  <a:pt x="0" y="0"/>
                </a:lnTo>
                <a:lnTo>
                  <a:pt x="0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86200" y="33526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848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4876920" y="25909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095880" y="190512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343400" y="175248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477120" y="198108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57800" y="1523880"/>
            <a:ext cx="1676520" cy="297180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334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657600" y="1523880"/>
            <a:ext cx="1371600" cy="297180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657600" y="388620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65760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541008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2209680" y="3733920"/>
            <a:ext cx="838080" cy="152280"/>
            <a:chOff x="2209680" y="3733920"/>
            <a:chExt cx="838080" cy="152280"/>
          </a:xfrm>
        </p:grpSpPr>
        <p:sp>
          <p:nvSpPr>
            <p:cNvPr id="195" name=""/>
            <p:cNvSpPr/>
            <p:nvPr/>
          </p:nvSpPr>
          <p:spPr>
            <a:xfrm>
              <a:off x="22096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4382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6668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8954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1981080" y="1523880"/>
            <a:ext cx="1295280" cy="2971800"/>
          </a:xfrm>
          <a:prstGeom prst="rect">
            <a:avLst/>
          </a:prstGeom>
          <a:noFill/>
          <a:ln w="12600">
            <a:solidFill>
              <a:srgbClr val="081d75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905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981080" y="1219320"/>
            <a:ext cx="129528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1148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03848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96252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8862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9718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3176" y="0"/>
                </a:moveTo>
                <a:lnTo>
                  <a:pt x="0" y="0"/>
                </a:lnTo>
                <a:lnTo>
                  <a:pt x="0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743200" y="3198960"/>
            <a:ext cx="1295640" cy="535320"/>
          </a:xfrm>
          <a:custGeom>
            <a:avLst/>
            <a:gdLst/>
            <a:ahLst/>
            <a:rect l="0" t="0" r="r" b="b"/>
            <a:pathLst>
              <a:path fill="none" w="3599" h="1487">
                <a:moveTo>
                  <a:pt x="3599" y="0"/>
                </a:moveTo>
                <a:lnTo>
                  <a:pt x="0" y="7"/>
                </a:lnTo>
                <a:lnTo>
                  <a:pt x="0" y="1487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14600" y="312264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4023" y="0"/>
                </a:moveTo>
                <a:lnTo>
                  <a:pt x="0" y="7"/>
                </a:lnTo>
                <a:lnTo>
                  <a:pt x="0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286000" y="3046320"/>
            <a:ext cx="1600560" cy="687600"/>
          </a:xfrm>
          <a:custGeom>
            <a:avLst/>
            <a:gdLst/>
            <a:ahLst/>
            <a:rect l="0" t="0" r="r" b="b"/>
            <a:pathLst>
              <a:path fill="none" w="4446" h="1910">
                <a:moveTo>
                  <a:pt x="4446" y="7"/>
                </a:moveTo>
                <a:lnTo>
                  <a:pt x="0" y="0"/>
                </a:lnTo>
                <a:lnTo>
                  <a:pt x="0" y="1910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Tk Toolk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533520" y="144792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obl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o hard to build applications with nice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wrong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++, object-oriented toolk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small improvement (10-20%?): must stil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at a low lev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ight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User Interfaces With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itional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Motif-lik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 events to Tcl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ipulate X selection, focus, window manage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brary of C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widget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-specific C code (primitives!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object typ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s (compose primitive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ond to ev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at's A Tk-Based Applic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191120" y="3124080"/>
            <a:ext cx="152640" cy="915120"/>
            <a:chOff x="4191120" y="3124080"/>
            <a:chExt cx="152640" cy="915120"/>
          </a:xfrm>
        </p:grpSpPr>
        <p:sp>
          <p:nvSpPr>
            <p:cNvPr id="217" name=""/>
            <p:cNvSpPr/>
            <p:nvPr/>
          </p:nvSpPr>
          <p:spPr>
            <a:xfrm>
              <a:off x="4191120" y="31240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213" y="213"/>
                  </a:moveTo>
                  <a:lnTo>
                    <a:pt x="213" y="213"/>
                  </a:lnTo>
                  <a:lnTo>
                    <a:pt x="213" y="213"/>
                  </a:lnTo>
                  <a:cubicBezTo>
                    <a:pt x="213" y="176"/>
                    <a:pt x="203" y="139"/>
                    <a:pt x="184" y="106"/>
                  </a:cubicBezTo>
                  <a:cubicBezTo>
                    <a:pt x="166" y="74"/>
                    <a:pt x="139" y="47"/>
                    <a:pt x="106" y="29"/>
                  </a:cubicBezTo>
                  <a:cubicBezTo>
                    <a:pt x="74" y="10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191120" y="39625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267080" y="35812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267080" y="36576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267080" y="32004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267080" y="35053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0"/>
                  </a:moveTo>
                  <a:lnTo>
                    <a:pt x="0" y="0"/>
                  </a:lnTo>
                  <a:cubicBezTo>
                    <a:pt x="0" y="37"/>
                    <a:pt x="10" y="74"/>
                    <a:pt x="29" y="107"/>
                  </a:cubicBezTo>
                  <a:cubicBezTo>
                    <a:pt x="47" y="139"/>
                    <a:pt x="74" y="166"/>
                    <a:pt x="107" y="184"/>
                  </a:cubicBezTo>
                  <a:cubicBezTo>
                    <a:pt x="139" y="203"/>
                    <a:pt x="176" y="213"/>
                    <a:pt x="213" y="213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"/>
          <p:cNvSpPr txBox="1"/>
          <p:nvPr/>
        </p:nvSpPr>
        <p:spPr>
          <a:xfrm>
            <a:off x="4343400" y="3382920"/>
            <a:ext cx="23623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comm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sh: Windowing S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user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lo, worl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lo -text "Hello, world" -command 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directory browser: 3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 browser: 200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x less code for simpl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203480" y="3246480"/>
            <a:ext cx="1380960" cy="7840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6022800" y="3025800"/>
            <a:ext cx="2098800" cy="28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rowser Wish Scri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5228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#!/usr/local/bin/wish4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box .list -yscroll ".scroll set"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-width 20 -height 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list -side le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rollbar .scroll -command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".list yview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scroll -side right -fill 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{$argc &gt; 0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[lindex $argv 0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[lsort [glob * .*]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.list insert end $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64832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.list &lt;Double-ButtonPress-1&gt;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rowse $dir [selection get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all &lt;Control-c&gt; {destroy .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proc browse {dir file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$dir != "."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set file $dir/$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file isdirectory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browse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[file isfile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xedit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rror "can't browse $file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ses For Tc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represent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data on disk as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load information, evaluate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scripts in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s at interesting times to give objects behavi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: send Tcl scripts between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able cont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, Web p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s on all UNIX/X platfor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C/Mac alpha releases: September 199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rce and documentation freely avail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,000 developers world-wid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ndreds of commercial products, free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sgroup: comp.lang.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introductory books (Ousterhout, Welc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presentative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media, groupw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 administ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ientific applications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rument control, simulation, visualization, C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-time control system for offshore plat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itish teletext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ature animation at Walt Disney Stud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-air broadcast control system for NB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nent technolog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: embeddable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: GUI toolkit and widgets based o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inciple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niversal scripting languag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s everything: functions, interfaces, commun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X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impler, 5-10x faster application develop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reater po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more things programmable, application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ctive objec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place data with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ailable via public FT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://ftp.aud.alcatel.com/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xpec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mote control for interactive programs such a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elne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ry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sc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#!/usr/local/bin/ex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awn rlogin [lindex $argv 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cd [pwd]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setenv DISPLAY $env(DISPLAY)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general-purpose exten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X system ca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ed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scanning (similar to awk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e/time manipu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bugging, help, profi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Ora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yb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ccess to commercial datab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r 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object-oriented programming i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-D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ocket-based remote procedure calls, distribut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ser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yId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GetId {}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cr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return $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MakeRPCServer 45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cli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server [dp_MakeRPCClient foo.bar.com 4545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rpc $server Get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You Might Use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graphical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that need scripting or extension facil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tform-independent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rawbac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t lear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ew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substitution rules confusing to some peop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d language ha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erformance limit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but surprisingly hig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interface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ompatib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 Xt, Motif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lans For The Fu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accessibil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work on PC/Mac ports (native look and fee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Tcl: interactive GUI buil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development tools (debugger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e the language/toolki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mental on-the-fly compil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support for modules, data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internationalization (Asian character set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exciting Internet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documen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programm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s to lear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applications more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versal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d and modify applications at run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many thing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scripts instead of da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, executable cont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+ Tk = shell of the 1990'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ing langu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rvey of applications and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lu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programs need command langua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ically redone for each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: weak, quirk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mac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owerful, but can't re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tion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usable scripting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r is a C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s basic features: variables, procedur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extend with additional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cripting Language 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04920" y="3124080"/>
            <a:ext cx="40384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e, complex application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structu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prevent ba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495680" y="3124080"/>
            <a:ext cx="44956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commands, script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less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um structure: less overhead, easy interchang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enable goo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457200" y="1447920"/>
            <a:ext cx="7696080" cy="990720"/>
            <a:chOff x="457200" y="1447920"/>
            <a:chExt cx="7696080" cy="990720"/>
          </a:xfrm>
        </p:grpSpPr>
        <p:sp>
          <p:nvSpPr>
            <p:cNvPr id="91" name=""/>
            <p:cNvSpPr/>
            <p:nvPr/>
          </p:nvSpPr>
          <p:spPr>
            <a:xfrm>
              <a:off x="533520" y="1828800"/>
              <a:ext cx="7544160" cy="609840"/>
            </a:xfrm>
            <a:custGeom>
              <a:avLst/>
              <a:gdLst/>
              <a:ahLst/>
              <a:rect l="0" t="0" r="r" b="b"/>
              <a:pathLst>
                <a:path w="20956" h="1694">
                  <a:moveTo>
                    <a:pt x="0" y="0"/>
                  </a:moveTo>
                  <a:lnTo>
                    <a:pt x="1848" y="0"/>
                  </a:lnTo>
                  <a:lnTo>
                    <a:pt x="2465" y="338"/>
                  </a:lnTo>
                  <a:lnTo>
                    <a:pt x="19723" y="338"/>
                  </a:lnTo>
                  <a:lnTo>
                    <a:pt x="19723" y="0"/>
                  </a:lnTo>
                  <a:lnTo>
                    <a:pt x="20956" y="846"/>
                  </a:lnTo>
                  <a:lnTo>
                    <a:pt x="19723" y="1694"/>
                  </a:lnTo>
                  <a:lnTo>
                    <a:pt x="19723" y="1355"/>
                  </a:lnTo>
                  <a:lnTo>
                    <a:pt x="2465" y="1355"/>
                  </a:lnTo>
                  <a:lnTo>
                    <a:pt x="1848" y="1694"/>
                  </a:lnTo>
                  <a:lnTo>
                    <a:pt x="0" y="1694"/>
                  </a:lnTo>
                  <a:lnTo>
                    <a:pt x="1232" y="8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187b1"/>
                </a:gs>
                <a:gs pos="100000">
                  <a:srgbClr val="a2c1fe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 txBox="1"/>
            <p:nvPr/>
          </p:nvSpPr>
          <p:spPr>
            <a:xfrm>
              <a:off x="2628720" y="1447920"/>
              <a:ext cx="38098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20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Program size, complexity, reu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 txBox="1"/>
            <p:nvPr/>
          </p:nvSpPr>
          <p:spPr>
            <a:xfrm>
              <a:off x="723888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 txBox="1"/>
            <p:nvPr/>
          </p:nvSpPr>
          <p:spPr>
            <a:xfrm>
              <a:off x="45720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Symbol"/>
                  <a:ea typeface="Symbol"/>
                </a:rPr>
                <a:t>∞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 txBox="1"/>
          <p:nvPr/>
        </p:nvSpPr>
        <p:spPr>
          <a:xfrm>
            <a:off x="380880" y="5334120"/>
            <a:ext cx="7696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One language can't meet all nee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wo-Language Approa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04920" y="3352680"/>
            <a:ext cx="769608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Tcl for scripting, C or C++ for larg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s for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yntax: easy to learn and ty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tructure: make things play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interfaces to C: extensi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1676520"/>
            <a:ext cx="7544160" cy="609840"/>
          </a:xfrm>
          <a:custGeom>
            <a:avLst/>
            <a:gdLst/>
            <a:ahLst/>
            <a:rect l="0" t="0" r="r" b="b"/>
            <a:pathLst>
              <a:path w="20956" h="1694">
                <a:moveTo>
                  <a:pt x="0" y="0"/>
                </a:moveTo>
                <a:lnTo>
                  <a:pt x="1848" y="0"/>
                </a:lnTo>
                <a:lnTo>
                  <a:pt x="2465" y="338"/>
                </a:lnTo>
                <a:lnTo>
                  <a:pt x="19723" y="338"/>
                </a:lnTo>
                <a:lnTo>
                  <a:pt x="19723" y="0"/>
                </a:lnTo>
                <a:lnTo>
                  <a:pt x="20956" y="846"/>
                </a:lnTo>
                <a:lnTo>
                  <a:pt x="19723" y="1694"/>
                </a:lnTo>
                <a:lnTo>
                  <a:pt x="19723" y="1355"/>
                </a:lnTo>
                <a:lnTo>
                  <a:pt x="2465" y="1355"/>
                </a:lnTo>
                <a:lnTo>
                  <a:pt x="1848" y="1694"/>
                </a:lnTo>
                <a:lnTo>
                  <a:pt x="0" y="1694"/>
                </a:lnTo>
                <a:lnTo>
                  <a:pt x="1232" y="84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187b1"/>
              </a:gs>
              <a:gs pos="100000">
                <a:srgbClr val="a2c1fe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628720" y="1295280"/>
            <a:ext cx="3809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ogram size, complexity, re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723888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Symbol"/>
                <a:ea typeface="Symbol"/>
              </a:rPr>
              <a:t>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2514600"/>
            <a:ext cx="4343400" cy="0"/>
          </a:xfrm>
          <a:prstGeom prst="line">
            <a:avLst/>
          </a:prstGeom>
          <a:ln w="38160">
            <a:solidFill>
              <a:srgbClr val="063de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809880" y="2895480"/>
            <a:ext cx="4267440" cy="0"/>
          </a:xfrm>
          <a:prstGeom prst="line">
            <a:avLst/>
          </a:prstGeom>
          <a:ln w="38160">
            <a:solidFill>
              <a:srgbClr val="fc012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33520" y="2514600"/>
            <a:ext cx="4343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63de8"/>
                </a:solidFill>
                <a:latin typeface="Times New Roman"/>
                <a:ea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809880" y="2514600"/>
            <a:ext cx="4267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syntax (similar to sh, C, Lisp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47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[expr $a+10]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o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a is $a"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 is 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{[expr $a+10]}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[expr $a+1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The Tcl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ch set of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, associative arrays,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itionals, lo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f "$x &lt; 3"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 "x is too small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UNIX files, sub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representation is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sy access from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s and data interchange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Factorial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fac x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$x&lt;=1 {return 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*[fac [expr $x-1]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ac 4 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First of four talks in all-day Tcl/Tk tutorial.</dc:description>
  <dc:language>en-US</dc:language>
  <cp:lastModifiedBy>Sun Microsystems</cp:lastModifiedBy>
  <cp:revision>0</cp:revision>
  <dc:subject/>
  <dc:title>An Overview of Tcl and Tk</dc:title>
</cp:coreProperties>
</file>