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a el entorno operativo Sol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86 </a:t>
            </a:r>
            <a:br>
              <a:rPr sz="18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jecuta sus aplicaciones MS-DOS en Int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para el entorno operativo Solaris x86 pone al alcance de su mano la capacidad combinada de los entornos Solaris y MS-DOS o Microsoft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Merge, los usuarios de Solaris x86 tienen acceso a miles de nuevas aplicaciones para 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también admite más aplicaciones para Microsoft Windows que las certificadas para el software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523880"/>
            <a:ext cx="373392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sólo está disponible en inglés, pero admite versiones localizadas de MS-DOS, Microsoft Windows y aplicaciones para estos entornos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ás informació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Merge, llame al 512/434-1511 , Prompt #1, o acceda a nuestra dirección de World Wide W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4694400"/>
            <a:ext cx="3733920" cy="21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nformación sobre la compr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Merge, llame al 512/434-1511, Prompt #2, o póngase en contacto con su distribuidor Sun más cer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