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Merge</a:t>
            </a:r>
            <a:r>
              <a:rPr b="0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™</a:t>
            </a:r>
            <a:r>
              <a:rPr b="0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 pour environnement d'exploitation Solaris</a:t>
            </a:r>
            <a:r>
              <a:rPr b="0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™</a:t>
            </a:r>
            <a:r>
              <a:rPr b="0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 x86</a:t>
            </a:r>
            <a:br>
              <a:rPr sz="1800"/>
            </a:br>
            <a:r>
              <a:rPr b="0" i="1" lang="en-US" sz="2200" spc="-1" strike="noStrike">
                <a:solidFill>
                  <a:srgbClr val="f6bf69"/>
                </a:solidFill>
                <a:latin typeface="Arial"/>
                <a:ea typeface="Arial"/>
              </a:rPr>
              <a:t>Exécute vos applications MS-DOS sur Int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52280" y="1143000"/>
            <a:ext cx="4572000" cy="51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55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ge pour environnement d'exploitation Solaris x86 place toute la puissance des environnements Solaris e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ou Microsoft Windows entre vos 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5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ge permet aux utilisateurs Solaris x86 d'accéder à des milliers d'applications MS-DOS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5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plus, Merge accepte plus d'applications Microsoft Windows que n'en comporte la liste de logiciels Wab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ertifi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162400" y="1328760"/>
            <a:ext cx="36957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EMARQUE </a:t>
            </a:r>
            <a:r>
              <a:rPr b="0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: disponible en anglais uniquement, Merge accepte toutefois les versions localisées de MS-DOS, Microsoft Windows et des ap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181480" y="3048120"/>
            <a:ext cx="3733920" cy="27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our plus d'informations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 Merge, appelez le 512/434-1511 et composez le 1. Vous pouvez aussi accéder à notre site World Wide Web au :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sun.com/sunsoft/Products/PC-Integration-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181480" y="4998960"/>
            <a:ext cx="3733920" cy="18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our acheter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erge, appelez le 512/434-1511 et composez le 2. Vous pouvez aussi contacter votre revendeur Sun loc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